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50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9.png" ContentType="image/png"/>
  <Override PartName="/ppt/media/image65.jpeg" ContentType="image/jpeg"/>
  <Override PartName="/ppt/media/image39.jpeg" ContentType="image/jpeg"/>
  <Override PartName="/ppt/media/image41.jpeg" ContentType="image/jpeg"/>
  <Override PartName="/ppt/media/image66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8813-F449-4633-8D01-ED02DB6D3482}" type="slidenum"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A773-DD6D-4B4D-B95E-EB1A47E9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741-6A08-4461-9EE6-D610013F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561-E8AE-412A-979F-26253FB5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FEF-51EB-4415-B3C7-EA2E9059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798-BA7B-4FB9-94E7-18F9DA02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FE90-058B-4B2B-B35C-09C4B605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E470-96FA-4970-880A-1B28B6EB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0A0D-BC19-473D-B88A-676DC42B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92ED-F40B-48F5-BB00-CE1A1E9C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F1ED-A68F-468C-A99D-C2D79C10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35FB-0742-4603-AF68-CEE63D3C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E9B9-9173-48EA-BF0D-69275F08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8E6-F798-4453-89CE-629A184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A820-7526-473F-BAF4-6839D7EE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7961-8DEC-46C8-9B97-A5587EE0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B3DD-2874-4F6D-A436-C749BFC8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653C-D0CA-43D1-A33B-376CB8FA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B2CA-48F5-4665-A9B1-B779F11B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4C4-5CA2-4E70-8AC0-38A85016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295-46FE-4E7E-AAE6-85587E35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57B-D2C2-446A-8B53-DAA7DA14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4C0-871A-4A67-BC8E-56D9DB50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804-FC39-4CAF-AB92-3DEB22C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F46-AE4A-43CC-9268-908F745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722-B0DC-4B10-ACCA-A5EE8668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6CD8-6DB3-42B2-9F0D-EF4EC2A7759A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3DE2-AE83-4F32-BCAC-B0B139C4F887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ОРАЛН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ДИНИЈ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И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ПИРОЗЕ</a:t>
            </a:r>
            <a:br>
              <a:rPr sz="4000"/>
            </a:b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ПОРЕМЕЋАЈ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УКУС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858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DYNIA</a:t>
            </a: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DY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СИНДРОМ ПЕКУЋИХ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8551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59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пати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n. trigeminu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стем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жданих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сихоге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кс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прес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ск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ц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в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имењу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несо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милтон-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    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порем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euralgija trigeminusa"/>
          <p:cNvPicPr/>
          <p:nvPr/>
        </p:nvPicPr>
        <p:blipFill>
          <a:blip r:embed="rId1"/>
          <a:srcRect l="0" t="9301" r="0" b="6262"/>
          <a:stretch/>
        </p:blipFill>
        <p:spPr>
          <a:xfrm>
            <a:off x="6553080" y="4417920"/>
            <a:ext cx="2283120" cy="2287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7" name="Picture 5" descr="Nerv-trigeminus-e1307560710402-166x200"/>
          <p:cNvPicPr/>
          <p:nvPr/>
        </p:nvPicPr>
        <p:blipFill>
          <a:blip r:embed="rId2"/>
          <a:stretch/>
        </p:blipFill>
        <p:spPr>
          <a:xfrm>
            <a:off x="6019920" y="1600200"/>
            <a:ext cx="2404800" cy="2666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07732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КЛИНИЧК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ЛИКА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ФЕРЕНЦИЈАЛН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ЈАГНОЗ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ис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ен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моћ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них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ек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линичк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скв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роз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ређ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лцер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црвенил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то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пител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сп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тез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какв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зн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убјектив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ремећај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19360" y="1752120"/>
            <a:ext cx="47242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уролошк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tempormandibulari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glossopharynge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trigem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gangliona sphenopalat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Papil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Neuritis trau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burning_mouth_080211_mn"/>
          <p:cNvPicPr/>
          <p:nvPr/>
        </p:nvPicPr>
        <p:blipFill>
          <a:blip r:embed="rId1"/>
          <a:stretch/>
        </p:blipFill>
        <p:spPr>
          <a:xfrm>
            <a:off x="5029200" y="4095720"/>
            <a:ext cx="3276720" cy="2457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48320" y="765000"/>
            <a:ext cx="40384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897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локалн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приклад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ом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брињав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риоз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ч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штр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виц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лањ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ал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тетс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док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обр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burning-tongue"/>
          <p:cNvPicPr/>
          <p:nvPr/>
        </p:nvPicPr>
        <p:blipFill>
          <a:blip r:embed="rId1"/>
          <a:stretch/>
        </p:blipFill>
        <p:spPr>
          <a:xfrm>
            <a:off x="4815000" y="1905120"/>
            <a:ext cx="4267080" cy="304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85840" y="685800"/>
            <a:ext cx="4800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10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пшт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пшт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радњ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ари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пецијалн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хе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у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јата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јат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pekuca usta"/>
          <p:cNvPicPr/>
          <p:nvPr/>
        </p:nvPicPr>
        <p:blipFill>
          <a:blip r:embed="rId1"/>
          <a:stretch/>
        </p:blipFill>
        <p:spPr>
          <a:xfrm>
            <a:off x="2457360" y="3886200"/>
            <a:ext cx="2648160" cy="2790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8" name="Picture 5" descr="lem0211fireeater"/>
          <p:cNvPicPr/>
          <p:nvPr/>
        </p:nvPicPr>
        <p:blipFill>
          <a:blip r:embed="rId2"/>
          <a:srcRect l="0" t="12356" r="0" b="20225"/>
          <a:stretch/>
        </p:blipFill>
        <p:spPr>
          <a:xfrm>
            <a:off x="5826240" y="1676520"/>
            <a:ext cx="2860560" cy="2519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9" name="Picture 6" descr="rheu_arthritis"/>
          <p:cNvPicPr/>
          <p:nvPr/>
        </p:nvPicPr>
        <p:blipFill>
          <a:blip r:embed="rId3"/>
          <a:stretch/>
        </p:blipFill>
        <p:spPr>
          <a:xfrm>
            <a:off x="5826240" y="4419720"/>
            <a:ext cx="2828880" cy="2257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38480" y="609480"/>
            <a:ext cx="464832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Симптоматск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к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стетичк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сеп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мико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дстригент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у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к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о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имула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а пљува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ет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сх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ештачка 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асе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л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на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ekuca usta"/>
          <p:cNvPicPr/>
          <p:nvPr/>
        </p:nvPicPr>
        <p:blipFill>
          <a:blip r:embed="rId1"/>
          <a:stretch/>
        </p:blipFill>
        <p:spPr>
          <a:xfrm>
            <a:off x="4229280" y="4513320"/>
            <a:ext cx="213336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3" name="Picture 7" descr="result (14)"/>
          <p:cNvPicPr/>
          <p:nvPr/>
        </p:nvPicPr>
        <p:blipFill>
          <a:blip r:embed="rId2"/>
          <a:stretch/>
        </p:blipFill>
        <p:spPr>
          <a:xfrm>
            <a:off x="5486400" y="1676520"/>
            <a:ext cx="3200400" cy="2260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4" name="Picture 8" descr="vodice-za-ispiranje-usta-ilustracija-midi"/>
          <p:cNvPicPr/>
          <p:nvPr/>
        </p:nvPicPr>
        <p:blipFill>
          <a:blip r:embed="rId3"/>
          <a:stretch/>
        </p:blipFill>
        <p:spPr>
          <a:xfrm>
            <a:off x="6705720" y="4513320"/>
            <a:ext cx="220968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5" name="Picture 6" descr="Pomarandze"/>
          <p:cNvPicPr/>
          <p:nvPr/>
        </p:nvPicPr>
        <p:blipFill>
          <a:blip r:embed="rId4"/>
          <a:stretch/>
        </p:blipFill>
        <p:spPr>
          <a:xfrm>
            <a:off x="1994040" y="5557680"/>
            <a:ext cx="1828800" cy="1084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765000"/>
            <a:ext cx="72388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цептор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флекс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њају    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а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мет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ређ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рис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ел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црн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ромп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јабуке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др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ukusi5"/>
          <p:cNvPicPr/>
          <p:nvPr/>
        </p:nvPicPr>
        <p:blipFill>
          <a:blip r:embed="rId1"/>
          <a:stretch/>
        </p:blipFill>
        <p:spPr>
          <a:xfrm>
            <a:off x="5565600" y="1887480"/>
            <a:ext cx="31305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3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3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3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61722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029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х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ч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рана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г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те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ињекц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изму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металног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ukusi"/>
          <p:cNvPicPr/>
          <p:nvPr/>
        </p:nvPicPr>
        <p:blipFill>
          <a:blip r:embed="rId1"/>
          <a:stretch/>
        </p:blipFill>
        <p:spPr>
          <a:xfrm>
            <a:off x="5867280" y="4724280"/>
            <a:ext cx="2838600" cy="190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5562720" y="3048120"/>
            <a:ext cx="35812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A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ukusi"/>
          <p:cNvPicPr/>
          <p:nvPr/>
        </p:nvPicPr>
        <p:blipFill>
          <a:blip r:embed="rId2"/>
          <a:stretch/>
        </p:blipFill>
        <p:spPr>
          <a:xfrm>
            <a:off x="5819760" y="1600200"/>
            <a:ext cx="3019320" cy="13716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720" y="765000"/>
            <a:ext cx="44020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Ageusi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потпу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о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р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бласт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окампусног г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и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tract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solitari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 пон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лимичн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уби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в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 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Otitis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- Herpes zoster oticus</a:t>
            </a:r>
            <a:r>
              <a:rPr b="1" i="1" lang="sr-Latn-CS" sz="16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61722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ом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лек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smell-and-taste-disorders"/>
          <p:cNvPicPr/>
          <p:nvPr/>
        </p:nvPicPr>
        <p:blipFill>
          <a:blip r:embed="rId1"/>
          <a:stretch/>
        </p:blipFill>
        <p:spPr>
          <a:xfrm>
            <a:off x="4708440" y="1643040"/>
            <a:ext cx="3905280" cy="2476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78" name="Picture 7" descr="ukusi"/>
          <p:cNvPicPr/>
          <p:nvPr/>
        </p:nvPicPr>
        <p:blipFill>
          <a:blip r:embed="rId2"/>
          <a:stretch/>
        </p:blipFill>
        <p:spPr>
          <a:xfrm>
            <a:off x="5327640" y="4343400"/>
            <a:ext cx="2666880" cy="2247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647712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смање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х пуш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об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мање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ири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лос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осећај пара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 љут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а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ор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твар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в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рова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алван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остен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еросклер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в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ремаћај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стај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следиц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раже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рaсимпатич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лака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wm-Smell and Taste"/>
          <p:cNvPicPr/>
          <p:nvPr/>
        </p:nvPicPr>
        <p:blipFill>
          <a:blip r:embed="rId1"/>
          <a:stretch/>
        </p:blipFill>
        <p:spPr>
          <a:xfrm>
            <a:off x="6172200" y="4619520"/>
            <a:ext cx="2743200" cy="20574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2" name="Picture 5" descr="dah-i-zubi-450"/>
          <p:cNvPicPr/>
          <p:nvPr/>
        </p:nvPicPr>
        <p:blipFill>
          <a:blip r:embed="rId2"/>
          <a:stretch/>
        </p:blipFill>
        <p:spPr>
          <a:xfrm>
            <a:off x="6781680" y="2666880"/>
            <a:ext cx="2133720" cy="1735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3" name="Picture 6" descr="smoking"/>
          <p:cNvPicPr/>
          <p:nvPr/>
        </p:nvPicPr>
        <p:blipFill>
          <a:blip r:embed="rId3"/>
          <a:stretch/>
        </p:blipFill>
        <p:spPr>
          <a:xfrm>
            <a:off x="4648320" y="1676520"/>
            <a:ext cx="2743200" cy="1471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37335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ЕРГИЈСК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14800" y="836280"/>
            <a:ext cx="45720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ПИДЕМ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чешћ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ављ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; 16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: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ист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оматолошко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н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6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-  4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русалим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3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ђ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0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11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0,7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 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46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9,3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-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20 –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се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  5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occa-urente"/>
          <p:cNvPicPr/>
          <p:nvPr/>
        </p:nvPicPr>
        <p:blipFill>
          <a:blip r:embed="rId1"/>
          <a:stretch/>
        </p:blipFill>
        <p:spPr>
          <a:xfrm>
            <a:off x="5562720" y="4343400"/>
            <a:ext cx="2895480" cy="1963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лергијске реакције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 неочекиване клиничке манифестације, које настају услед измењеног реаговања имунокомпатибилних ћелија (макрофаге, моноцити, лимфоцити, базофили и мастоцити) против страних материја (ткива, бактерија, вируса и др.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80629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ензибилизациј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е презентацијом антигене материје од стране антиген-презентирајуцих ћелија (макрофаге и лимфоци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ворена антитела настају на неке сопствене материје, чиме се објашњавај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утоимуна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5562720"/>
            <a:ext cx="7927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сеудоалергиј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интолеранција настаје фармаколошким својствима унетих супстан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9135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су супстанце егзогеног или ендогеног порекла које могу да изазову имуни од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ХАПТ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ју само антигеност, али не индукују стварање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86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РИРОД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теини, липиди, нуклеинске киселине, ткив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ЕШТАЧК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тетски полипептид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њугова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http://www.alfamedic.rs/images/alergologija/alergologija1.jpg"/>
          <p:cNvPicPr/>
          <p:nvPr/>
        </p:nvPicPr>
        <p:blipFill>
          <a:blip r:embed="rId1"/>
          <a:stretch/>
        </p:blipFill>
        <p:spPr>
          <a:xfrm>
            <a:off x="3886200" y="3581280"/>
            <a:ext cx="4952880" cy="2992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утолог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истог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л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сен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друг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генетички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Хетерофил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једнички за различи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vaseljenska.com/wp-content/uploads/2012/09/hiv-sida-aids.jpg"/>
          <p:cNvPicPr/>
          <p:nvPr/>
        </p:nvPicPr>
        <p:blipFill>
          <a:blip r:embed="rId1"/>
          <a:stretch/>
        </p:blipFill>
        <p:spPr>
          <a:xfrm>
            <a:off x="4038480" y="4025880"/>
            <a:ext cx="4840560" cy="2594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www.nordvik.rs/wp-content/uploads/2012/12/alergije1.jpg"/>
          <p:cNvPicPr/>
          <p:nvPr/>
        </p:nvPicPr>
        <p:blipFill>
          <a:blip r:embed="rId2"/>
          <a:stretch/>
        </p:blipFill>
        <p:spPr>
          <a:xfrm>
            <a:off x="380880" y="403380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8580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786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и се налазе на кратком краку 6 хромоз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лекс гена има више ло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куси HLA су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2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4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8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1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са 1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: HLA-A, HLA-B и HLA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I: HLA-D и HLA-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62120" y="1828800"/>
            <a:ext cx="56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 HLA – Human Leucocyte antigen ti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163440" y="-2865600"/>
            <a:ext cx="726768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http://www.medicaljournals.se/acta/content/files/web/3320-web-images/3320fig3_fmt.jpeg"/>
          <p:cNvPicPr/>
          <p:nvPr/>
        </p:nvPicPr>
        <p:blipFill>
          <a:blip r:embed="rId1"/>
          <a:stretch/>
        </p:blipFill>
        <p:spPr>
          <a:xfrm>
            <a:off x="5429160" y="5019840"/>
            <a:ext cx="371484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НТИТЕЛА - ИМУНОГЛОБУЛИН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82072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Г (IgG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% од свих Иг, везује се за Фц- фраг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итофилан је и има 4 под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М (IgM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А (Иг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торни имуноглобул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силац је локалног имун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 две суб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Е (IgE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агинско антител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ује се за Фц-рецепт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зофилних гранулоци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т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оноклонкса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static.framar.bg/snimki/zabolyavaniya/imunodeficit-s-preobladavasht-defekt-na-antitel.-neutochnen.jpg"/>
          <p:cNvPicPr/>
          <p:nvPr/>
        </p:nvPicPr>
        <p:blipFill>
          <a:blip r:embed="rId1"/>
          <a:stretch/>
        </p:blipFill>
        <p:spPr>
          <a:xfrm>
            <a:off x="4978440" y="2743200"/>
            <a:ext cx="398448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ИМУНОЛОШКЕ РЕАКЦИЈ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907920"/>
            <a:ext cx="8066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ни тип хиперсензибил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афилактички 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лергијска ас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уртика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оленска грозница и 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олитичка 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урп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утоиму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I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усова ре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румск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09480" y="4653000"/>
            <a:ext cx="8066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асни тип преосетљ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у после 24 и више часова. У овим реакцијама учествују Т-лимфоцити за чију се површину везују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осетљивост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ктериј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ус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азит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контакт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http://home.allergicchild.com/wp-content/uploads/2012/07/allergy1.jpg"/>
          <p:cNvPicPr/>
          <p:nvPr/>
        </p:nvPicPr>
        <p:blipFill>
          <a:blip r:embed="rId1"/>
          <a:stretch/>
        </p:blipFill>
        <p:spPr>
          <a:xfrm>
            <a:off x="5886360" y="1752480"/>
            <a:ext cx="29527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ЛИНИЧКЕ МАНИФЕСТАЦИЈЕ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alle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anthema fix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edema angioneuroti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conta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305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гзогени (бактерије, вируси, храна, ле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догени (трансформација аутогеног материј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Знац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антем оралне слузокоже, едем оралне слузокоже (јавља се импресија зуба), ерозије и улцерације оралне слузокоже, ретко нек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имптом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ечење, жарење, бол, задах из уста, отежана исхрана - дехидрат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st allergica ab"/>
          <p:cNvPicPr/>
          <p:nvPr/>
        </p:nvPicPr>
        <p:blipFill>
          <a:blip r:embed="rId1"/>
          <a:srcRect l="5204" t="9561" r="10888" b="0"/>
          <a:stretch/>
        </p:blipFill>
        <p:spPr>
          <a:xfrm>
            <a:off x="5364000" y="4870440"/>
            <a:ext cx="2451240" cy="1778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ythema exudativum mult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mphigus vulg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chen pl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станак узимањ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гиц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://1.bp.blogspot.com/-m_gqWV53k1k/Tk-y0aS1ACI/AAAAAAAACxk/z9C6EI1g_mg/s640/Allergic%2Bstomatitis%2Bcaused%2Bby%2Bacrylic%2Bresin.png"/>
          <p:cNvPicPr/>
          <p:nvPr/>
        </p:nvPicPr>
        <p:blipFill>
          <a:blip r:embed="rId1"/>
          <a:stretch/>
        </p:blipFill>
        <p:spPr>
          <a:xfrm>
            <a:off x="4876920" y="3924360"/>
            <a:ext cx="4047840" cy="2781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dc150.4shared.com/doc/27MNDEMH/preview_html_26665746.gif"/>
          <p:cNvPicPr/>
          <p:nvPr/>
        </p:nvPicPr>
        <p:blipFill>
          <a:blip r:embed="rId2"/>
          <a:stretch/>
        </p:blipFill>
        <p:spPr>
          <a:xfrm>
            <a:off x="5486400" y="1563840"/>
            <a:ext cx="3432240" cy="2103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леков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сулфопрепара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биотици, аспир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хра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конзерванси, салици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непцу и 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 енан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пертрофија језичног покрив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enanthema fixum"/>
          <p:cNvPicPr/>
          <p:nvPr/>
        </p:nvPicPr>
        <p:blipFill>
          <a:blip r:embed="rId1"/>
          <a:srcRect l="13624" t="10147" r="23114" b="4348"/>
          <a:stretch/>
        </p:blipFill>
        <p:spPr>
          <a:xfrm>
            <a:off x="6300720" y="4076640"/>
            <a:ext cx="2664000" cy="2419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19" name="Picture 6" descr="alergija na eugenol"/>
          <p:cNvPicPr/>
          <p:nvPr/>
        </p:nvPicPr>
        <p:blipFill>
          <a:blip r:embed="rId2"/>
          <a:srcRect l="4195" t="0" r="0" b="0"/>
          <a:stretch/>
        </p:blipFill>
        <p:spPr>
          <a:xfrm>
            <a:off x="6300720" y="1730520"/>
            <a:ext cx="2664000" cy="2155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836280"/>
            <a:ext cx="7086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ДЕЛ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Т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Секундар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атећ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Локалн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пшт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2. Прав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есенцијал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burnx2"/>
          <p:cNvPicPr/>
          <p:nvPr/>
        </p:nvPicPr>
        <p:blipFill>
          <a:blip r:embed="rId1"/>
          <a:srcRect l="0" t="0" r="0" b="22509"/>
          <a:stretch/>
        </p:blipFill>
        <p:spPr>
          <a:xfrm>
            <a:off x="762120" y="4987800"/>
            <a:ext cx="5181480" cy="1535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rymouth"/>
          <p:cNvPicPr/>
          <p:nvPr/>
        </p:nvPicPr>
        <p:blipFill>
          <a:blip r:embed="rId2"/>
          <a:stretch/>
        </p:blipFill>
        <p:spPr>
          <a:xfrm>
            <a:off x="6781680" y="4443480"/>
            <a:ext cx="2200320" cy="19936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3" name="Picture 8" descr="images"/>
          <p:cNvPicPr/>
          <p:nvPr/>
        </p:nvPicPr>
        <p:blipFill>
          <a:blip r:embed="rId3"/>
          <a:stretch/>
        </p:blipFill>
        <p:spPr>
          <a:xfrm>
            <a:off x="6781680" y="2190600"/>
            <a:ext cx="2119320" cy="1667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ључење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http://sideeffectsz.com/wp-content/uploads/2013/02/bactrim-5.jpg"/>
          <p:cNvPicPr/>
          <p:nvPr/>
        </p:nvPicPr>
        <p:blipFill>
          <a:blip r:embed="rId1"/>
          <a:stretch/>
        </p:blipFill>
        <p:spPr>
          <a:xfrm>
            <a:off x="5486400" y="3733920"/>
            <a:ext cx="3105000" cy="2666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www.steadyhealth.com/109076/Image/antibiotics_pills.jpg"/>
          <p:cNvPicPr/>
          <p:nvPr/>
        </p:nvPicPr>
        <p:blipFill>
          <a:blip r:embed="rId2"/>
          <a:stretch/>
        </p:blipFill>
        <p:spPr>
          <a:xfrm>
            <a:off x="914400" y="3733920"/>
            <a:ext cx="3532320" cy="2649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3280" y="1671120"/>
            <a:ext cx="8534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Наслед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остата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хибитор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лест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утозом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минант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тече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есте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моционал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е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оме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г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јези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отис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43000" y="10666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gE, Ig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gioedem"/>
          <p:cNvPicPr/>
          <p:nvPr/>
        </p:nvPicPr>
        <p:blipFill>
          <a:blip r:embed="rId1"/>
          <a:stretch/>
        </p:blipFill>
        <p:spPr>
          <a:xfrm>
            <a:off x="7308720" y="2895480"/>
            <a:ext cx="1589040" cy="2159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28" name="Picture 7" descr="angioneuroticni edem"/>
          <p:cNvPicPr/>
          <p:nvPr/>
        </p:nvPicPr>
        <p:blipFill>
          <a:blip r:embed="rId2"/>
          <a:srcRect l="0" t="7705" r="0" b="9824"/>
          <a:stretch/>
        </p:blipFill>
        <p:spPr>
          <a:xfrm>
            <a:off x="6875640" y="1179360"/>
            <a:ext cx="2022120" cy="1582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руршки емфиз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granuloma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lkersson-Rosenthal syndrom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03280" y="981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IgE, Ig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t0.gstatic.com/images?q=tbn:ANd9GcRueSXzEX6y0XuA1a_ohjLR9Q2Xf7J3qxcqHclcOQ0TpgiIOV6E"/>
          <p:cNvPicPr/>
          <p:nvPr/>
        </p:nvPicPr>
        <p:blipFill>
          <a:blip r:embed="rId1"/>
          <a:stretch/>
        </p:blipFill>
        <p:spPr>
          <a:xfrm>
            <a:off x="5978520" y="4564080"/>
            <a:ext cx="2978280" cy="220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http://t0.gstatic.com/images?q=tbn:ANd9GcQpWrWZeD-lkB38PEctyzBCzBcyddi6Dr16uObLwew5EnLjO8mD"/>
          <p:cNvPicPr/>
          <p:nvPr/>
        </p:nvPicPr>
        <p:blipFill>
          <a:blip r:embed="rId2"/>
          <a:stretch/>
        </p:blipFill>
        <p:spPr>
          <a:xfrm>
            <a:off x="5978520" y="2265480"/>
            <a:ext cx="29782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38242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Промене на усн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нан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 и затегнутост у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итем оралне 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1052640"/>
            <a:ext cx="295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alle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ergija na akri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3708360" y="1125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468360" y="213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http://img.medscape.com/pi/emed/ckb/dermatology/1048885-1076589-1530tn.jpg"/>
          <p:cNvPicPr/>
          <p:nvPr/>
        </p:nvPicPr>
        <p:blipFill>
          <a:blip r:embed="rId1"/>
          <a:stretch/>
        </p:blipFill>
        <p:spPr>
          <a:xfrm>
            <a:off x="5257800" y="4336920"/>
            <a:ext cx="3124080" cy="196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http://img.medscape.com/pi/emed/ckb/dermatology/1048885-1076589-1527tn.jpg"/>
          <p:cNvPicPr/>
          <p:nvPr/>
        </p:nvPicPr>
        <p:blipFill>
          <a:blip r:embed="rId2"/>
          <a:stretch/>
        </p:blipFill>
        <p:spPr>
          <a:xfrm>
            <a:off x="5257800" y="2009880"/>
            <a:ext cx="3087720" cy="2114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7879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тски ефекат  од про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ијс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мич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alergija na akrilat"/>
          <p:cNvPicPr/>
          <p:nvPr/>
        </p:nvPicPr>
        <p:blipFill>
          <a:blip r:embed="rId1"/>
          <a:srcRect l="0" t="7165" r="0" b="0"/>
          <a:stretch/>
        </p:blipFill>
        <p:spPr>
          <a:xfrm>
            <a:off x="4876920" y="2992320"/>
            <a:ext cx="3362040" cy="3005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estovi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in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експоз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ба уб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а скарификације 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ratch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ausnitz-Kustne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окациони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dermnetnz.org/procedures/img/ptest1-s.jpg"/>
          <p:cNvPicPr/>
          <p:nvPr/>
        </p:nvPicPr>
        <p:blipFill>
          <a:blip r:embed="rId1"/>
          <a:stretch/>
        </p:blipFill>
        <p:spPr>
          <a:xfrm>
            <a:off x="5410080" y="1636560"/>
            <a:ext cx="2973600" cy="2230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http://www.laserdermatologynyc.com/images/text/skin-allergy/patch-testing.jpg"/>
          <p:cNvPicPr/>
          <p:nvPr/>
        </p:nvPicPr>
        <p:blipFill>
          <a:blip r:embed="rId2"/>
          <a:stretch/>
        </p:blipFill>
        <p:spPr>
          <a:xfrm>
            <a:off x="5410080" y="415296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8534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94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стов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 v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ципитацијске ре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лектрофо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дегранулације базофил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lly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лимфоцитне транс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ови за одређивање хис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www.embrn.eu/typo3temp/pics/2d4f24678f.png"/>
          <p:cNvPicPr/>
          <p:nvPr/>
        </p:nvPicPr>
        <p:blipFill>
          <a:blip r:embed="rId1"/>
          <a:stretch/>
        </p:blipFill>
        <p:spPr>
          <a:xfrm>
            <a:off x="5334120" y="2133720"/>
            <a:ext cx="3155760" cy="4019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ЕРАПИЈ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525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патикомиметици - 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арати калц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https://encrypted-tbn3.gstatic.com/images?q=tbn:ANd9GcRFHFGpkwAUFi0RtsGp_2sDitqcOubyRmhwdwR3MSMu2M6vibCLdA"/>
          <p:cNvPicPr/>
          <p:nvPr/>
        </p:nvPicPr>
        <p:blipFill>
          <a:blip r:embed="rId1"/>
          <a:stretch/>
        </p:blipFill>
        <p:spPr>
          <a:xfrm>
            <a:off x="5791320" y="39625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http://3.imimg.com/data3/NX/PS/MY-633643/anti-allergic-drug-250x250.png"/>
          <p:cNvPicPr/>
          <p:nvPr/>
        </p:nvPicPr>
        <p:blipFill>
          <a:blip r:embed="rId2"/>
          <a:stretch/>
        </p:blipFill>
        <p:spPr>
          <a:xfrm>
            <a:off x="5791320" y="10666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556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ЛОКАЛН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вој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номалиј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Lingua plic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атећ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н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ск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фи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уролош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Glossitis rombica me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он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п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ingva plicata 1"/>
          <p:cNvPicPr/>
          <p:nvPr/>
        </p:nvPicPr>
        <p:blipFill>
          <a:blip r:embed="rId1"/>
          <a:stretch/>
        </p:blipFill>
        <p:spPr>
          <a:xfrm>
            <a:off x="6819840" y="1708200"/>
            <a:ext cx="1897200" cy="16826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7" name="Picture 5" descr="rombica"/>
          <p:cNvPicPr/>
          <p:nvPr/>
        </p:nvPicPr>
        <p:blipFill>
          <a:blip r:embed="rId2"/>
          <a:srcRect l="0" t="0" r="0" b="22441"/>
          <a:stretch/>
        </p:blipFill>
        <p:spPr>
          <a:xfrm>
            <a:off x="2133720" y="5575320"/>
            <a:ext cx="1873080" cy="1135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8" name="Picture 6" descr="rombica 2"/>
          <p:cNvPicPr/>
          <p:nvPr/>
        </p:nvPicPr>
        <p:blipFill>
          <a:blip r:embed="rId3"/>
          <a:srcRect l="0" t="11557" r="0" b="0"/>
          <a:stretch/>
        </p:blipFill>
        <p:spPr>
          <a:xfrm>
            <a:off x="4386240" y="5575320"/>
            <a:ext cx="1960560" cy="11095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9" name="Picture 7" descr="lingva plicata 2"/>
          <p:cNvPicPr/>
          <p:nvPr/>
        </p:nvPicPr>
        <p:blipFill>
          <a:blip r:embed="rId4"/>
          <a:stretch/>
        </p:blipFill>
        <p:spPr>
          <a:xfrm>
            <a:off x="6819840" y="3487680"/>
            <a:ext cx="1897200" cy="16178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33000"/>
            <a:ext cx="792468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0755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чном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кривач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ч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кривач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ч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ч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чурк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п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та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сквамира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акте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emija 1"/>
          <p:cNvPicPr/>
          <p:nvPr/>
        </p:nvPicPr>
        <p:blipFill>
          <a:blip r:embed="rId1"/>
          <a:stretch/>
        </p:blipFill>
        <p:spPr>
          <a:xfrm>
            <a:off x="6622920" y="1749600"/>
            <a:ext cx="2063880" cy="20732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3" name="Picture 5" descr="hipertrfija"/>
          <p:cNvPicPr/>
          <p:nvPr/>
        </p:nvPicPr>
        <p:blipFill>
          <a:blip r:embed="rId2"/>
          <a:stretch/>
        </p:blipFill>
        <p:spPr>
          <a:xfrm>
            <a:off x="1332000" y="4365720"/>
            <a:ext cx="2592360" cy="21333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4" name="Picture 6" descr="filiformne-papile-izgledaju-poput-kratkih-niti-i-rasprostranjene-su-po-čitavom-jeziku-a-gljivolike-fungiformne-papile-nalaze-se-na-vršku-jezika"/>
          <p:cNvPicPr/>
          <p:nvPr/>
        </p:nvPicPr>
        <p:blipFill>
          <a:blip r:embed="rId3"/>
          <a:stretch/>
        </p:blipFill>
        <p:spPr>
          <a:xfrm>
            <a:off x="4952880" y="4365720"/>
            <a:ext cx="2895840" cy="2133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80773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90392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хром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галоб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рниц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руп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циро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антибиот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тикостер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азитар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гестив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надбубреж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лез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амер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нсо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ра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дел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в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anemija"/>
          <p:cNvPicPr/>
          <p:nvPr/>
        </p:nvPicPr>
        <p:blipFill>
          <a:blip r:embed="rId1"/>
          <a:stretch/>
        </p:blipFill>
        <p:spPr>
          <a:xfrm>
            <a:off x="6567480" y="1676520"/>
            <a:ext cx="2471760" cy="20984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8" name="Picture 5" descr="sideropenicna anemija 2"/>
          <p:cNvPicPr/>
          <p:nvPr/>
        </p:nvPicPr>
        <p:blipFill>
          <a:blip r:embed="rId2"/>
          <a:srcRect l="11240" t="0" r="0" b="0"/>
          <a:stretch/>
        </p:blipFill>
        <p:spPr>
          <a:xfrm>
            <a:off x="6567480" y="4495680"/>
            <a:ext cx="2471760" cy="2170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29" name="Picture 6" descr="atrofija pokrivaca"/>
          <p:cNvPicPr/>
          <p:nvPr/>
        </p:nvPicPr>
        <p:blipFill>
          <a:blip r:embed="rId3"/>
          <a:srcRect l="0" t="21334" r="0" b="7677"/>
          <a:stretch/>
        </p:blipFill>
        <p:spPr>
          <a:xfrm>
            <a:off x="4191120" y="5562720"/>
            <a:ext cx="1981080" cy="11030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07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ME" sz="2400" spc="-1" strike="noStrike">
                <a:solidFill>
                  <a:srgbClr val="ff0000"/>
                </a:solidFill>
                <a:latin typeface="Arial"/>
              </a:rPr>
              <a:t>б .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ипер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ебри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зумир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ш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ш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мање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кс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ростоми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с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комер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ш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лу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онтролис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рој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hipertrofija 2"/>
          <p:cNvPicPr/>
          <p:nvPr/>
        </p:nvPicPr>
        <p:blipFill>
          <a:blip r:embed="rId1"/>
          <a:stretch/>
        </p:blipFill>
        <p:spPr>
          <a:xfrm>
            <a:off x="6602400" y="1730520"/>
            <a:ext cx="2389320" cy="230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3" name="Picture 5" descr="hipertrofija 1"/>
          <p:cNvPicPr/>
          <p:nvPr/>
        </p:nvPicPr>
        <p:blipFill>
          <a:blip r:embed="rId2"/>
          <a:stretch/>
        </p:blipFill>
        <p:spPr>
          <a:xfrm>
            <a:off x="6602400" y="4424400"/>
            <a:ext cx="2389320" cy="21477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4" name="Picture 6" descr="oblozen jezik1"/>
          <p:cNvPicPr/>
          <p:nvPr/>
        </p:nvPicPr>
        <p:blipFill>
          <a:blip r:embed="rId3"/>
          <a:srcRect l="23570" t="26767" r="27272" b="27351"/>
          <a:stretch/>
        </p:blipFill>
        <p:spPr>
          <a:xfrm>
            <a:off x="3730680" y="4888080"/>
            <a:ext cx="2517840" cy="176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6391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хормонал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сбал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макс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нопауз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чк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моционалн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стабилношћ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лоп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“ендокри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синдром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реактив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ле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стр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ијад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импто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ку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лтерир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burning mouth syndrome"/>
          <p:cNvPicPr/>
          <p:nvPr/>
        </p:nvPicPr>
        <p:blipFill>
          <a:blip r:embed="rId1"/>
          <a:stretch/>
        </p:blipFill>
        <p:spPr>
          <a:xfrm>
            <a:off x="152280" y="4495680"/>
            <a:ext cx="2476800" cy="1847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8" name="Picture 5" descr="dry_tongue_mouth"/>
          <p:cNvPicPr/>
          <p:nvPr/>
        </p:nvPicPr>
        <p:blipFill>
          <a:blip r:embed="rId2"/>
          <a:stretch/>
        </p:blipFill>
        <p:spPr>
          <a:xfrm>
            <a:off x="6105600" y="3809880"/>
            <a:ext cx="2743200" cy="268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4563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07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рвикал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понди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генератив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рат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шљен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радијац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толош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це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истем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ранијал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ртериосклеротич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уд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огат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аскуларизац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ок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нгиноз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7_cervicalspondylosis"/>
          <p:cNvPicPr/>
          <p:nvPr/>
        </p:nvPicPr>
        <p:blipFill>
          <a:blip r:embed="rId1"/>
          <a:srcRect l="0" t="0" r="0" b="5764"/>
          <a:stretch/>
        </p:blipFill>
        <p:spPr>
          <a:xfrm>
            <a:off x="3270240" y="2895480"/>
            <a:ext cx="18288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2" name="Picture 5" descr="spoondiloza"/>
          <p:cNvPicPr/>
          <p:nvPr/>
        </p:nvPicPr>
        <p:blipFill>
          <a:blip r:embed="rId2"/>
          <a:stretch/>
        </p:blipFill>
        <p:spPr>
          <a:xfrm>
            <a:off x="5334120" y="2895480"/>
            <a:ext cx="36576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3" name="Picture 6" descr="aorta"/>
          <p:cNvPicPr/>
          <p:nvPr/>
        </p:nvPicPr>
        <p:blipFill>
          <a:blip r:embed="rId3"/>
          <a:stretch/>
        </p:blipFill>
        <p:spPr>
          <a:xfrm>
            <a:off x="5943600" y="4622760"/>
            <a:ext cx="2590920" cy="2013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9:23:47Z</dcterms:created>
  <dc:creator>Pejca</dc:creator>
  <dc:description/>
  <dc:language>en-US</dc:language>
  <cp:lastModifiedBy>John</cp:lastModifiedBy>
  <dcterms:modified xsi:type="dcterms:W3CDTF">2017-08-30T12:53:48Z</dcterms:modified>
  <cp:revision>132</cp:revision>
  <dc:subject/>
  <dc:title>ORALNE DINIJE I PIROZE</dc:title>
</cp:coreProperties>
</file>