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50.png" ContentType="image/pn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9.png" ContentType="image/png"/>
  <Override PartName="/ppt/media/image65.jpeg" ContentType="image/jpeg"/>
  <Override PartName="/ppt/media/image39.jpeg" ContentType="image/jpeg"/>
  <Override PartName="/ppt/media/image41.jpeg" ContentType="image/jpeg"/>
  <Override PartName="/ppt/media/image66.png" ContentType="image/png"/>
  <Override PartName="/ppt/media/image60.jpeg" ContentType="image/jpeg"/>
  <Override PartName="/ppt/media/image64.png" ContentType="image/png"/>
  <Override PartName="/ppt/media/image1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6.png" ContentType="image/pn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M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M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663D-879E-47AF-B101-524B89034603}" type="slidenum">
              <a:rPr b="0" lang="sr-M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EC96-F3A0-460E-8759-7B4677A02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B3E-9FAD-4FB6-8D60-3136E61F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2F4-A938-4F1F-8DB9-67551E5A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41E-B15E-4EF5-AB18-9E934C75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AE8-C36B-4346-8EC2-3E28DF98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DE33-4E17-44D7-8015-757F8FB9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DA6F-7477-420B-8BA2-621E0E4B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B869-B3B5-41E1-95D6-99B0C58A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3CAC-FE58-4543-93E5-6D29A4A7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4952-5960-4C06-BA2F-70BF904C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5988-B33B-4086-88C7-AF60BA23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C37D-D277-4669-AEF9-6975DB10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1156-45BF-4093-BA71-F30AA8B7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22AA-3527-4D15-B0E1-30787FE6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3735-EA28-4E0C-888D-CB9DF5DF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C340-883B-4981-BA6B-2A9BCF5C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2635-237B-4F4A-B3AE-F36AB1A4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9E11-351B-4703-8DBF-32CD7076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307E-7640-40E3-B517-9B5BCB06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52D1-3D89-458B-910E-FB07BCD7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4EC-5DFC-4554-9AC5-39D57A2A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A97-EAB0-4735-B9FD-B4E2438B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7D3-4D07-4471-A2C6-1EBDE8B7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CA89-2E99-49E4-9B7D-B6B28CA8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D35-09F3-4432-8B50-7E622159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3C26-8619-44B8-8CA7-1BDEDC689732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8D86-C214-4451-976F-4DD8F14A6D2E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330033"/>
                </a:solidFill>
                <a:latin typeface="Times New Roman"/>
              </a:rPr>
              <a:t>ОРАЛНЕ</a:t>
            </a:r>
            <a:r>
              <a:rPr b="1" lang="sr-Latn-CS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330033"/>
                </a:solidFill>
                <a:latin typeface="Times New Roman"/>
              </a:rPr>
              <a:t>ДИНИЈЕ</a:t>
            </a:r>
            <a:r>
              <a:rPr b="1" lang="sr-Latn-CS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330033"/>
                </a:solidFill>
                <a:latin typeface="Times New Roman"/>
              </a:rPr>
              <a:t>И</a:t>
            </a:r>
            <a:r>
              <a:rPr b="1" lang="sr-Latn-CS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330033"/>
                </a:solidFill>
                <a:latin typeface="Times New Roman"/>
              </a:rPr>
              <a:t>ПИРОЗЕ</a:t>
            </a:r>
            <a:br>
              <a:rPr sz="4000"/>
            </a:br>
            <a:r>
              <a:rPr b="1" lang="sr-Latn-CS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330033"/>
                </a:solidFill>
                <a:latin typeface="Times New Roman"/>
              </a:rPr>
              <a:t>ПОРЕМЕЋАЈ</a:t>
            </a: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330033"/>
                </a:solidFill>
                <a:latin typeface="Times New Roman"/>
              </a:rPr>
              <a:t>УКУС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716280"/>
            <a:ext cx="6858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STOMATODYNIA</a:t>
            </a:r>
            <a:r>
              <a:rPr b="1" i="1" lang="en-US" sz="20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STOMATOPY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GLOSSODY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GLOSSOPY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0033"/>
                </a:solidFill>
                <a:latin typeface="Arial"/>
              </a:rPr>
              <a:t>СИНДРОМ ПЕКУЋИХ 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85512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СЕНЦИЈАЛ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5941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уропатије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n. trigeminu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омене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истему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ожданих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сихогени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ремећа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ксиоз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епреси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аски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нцерофоб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оцен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в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њ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имењуј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а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А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инесот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амилтон-ов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            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 поремећа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neuralgija trigeminusa"/>
          <p:cNvPicPr/>
          <p:nvPr/>
        </p:nvPicPr>
        <p:blipFill>
          <a:blip r:embed="rId1"/>
          <a:srcRect l="0" t="9301" r="0" b="6262"/>
          <a:stretch/>
        </p:blipFill>
        <p:spPr>
          <a:xfrm>
            <a:off x="6553080" y="4417920"/>
            <a:ext cx="2283120" cy="22878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47" name="Picture 5" descr="Nerv-trigeminus-e1307560710402-166x200"/>
          <p:cNvPicPr/>
          <p:nvPr/>
        </p:nvPicPr>
        <p:blipFill>
          <a:blip r:embed="rId2"/>
          <a:stretch/>
        </p:blipFill>
        <p:spPr>
          <a:xfrm>
            <a:off x="6019920" y="1600200"/>
            <a:ext cx="2404800" cy="26668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10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1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60280"/>
            <a:ext cx="8077320" cy="11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КЛИНИЧКА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ЛИКА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ФЕРЕНЦИЈАЛНА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ЈАГНОЗ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4113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личит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окали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личит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пис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ен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моћ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них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ек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линичк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роме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јез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0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атроф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језичног покрив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десквам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хипертроф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језичног покрив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ерозиј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ређ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лцер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црвенило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ток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лузоко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хипертроф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епител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исп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отезн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ло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без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икакв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зна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убјектив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тего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ремећај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19360" y="1752120"/>
            <a:ext cx="47242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еуролошк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уралг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n.tempormandibularis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уралг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n. glossopharyngeus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уралг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n. trigeminus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gangliona sphenopalatinus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Papill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Neuritis trau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burning_mouth_080211_mn"/>
          <p:cNvPicPr/>
          <p:nvPr/>
        </p:nvPicPr>
        <p:blipFill>
          <a:blip r:embed="rId1"/>
          <a:stretch/>
        </p:blipFill>
        <p:spPr>
          <a:xfrm>
            <a:off x="5029200" y="4095720"/>
            <a:ext cx="3276720" cy="24573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48320" y="765000"/>
            <a:ext cx="403848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ТЕРАП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89744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еловањ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а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локалн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фак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екци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прикладн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ломб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брињав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риозн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лач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штр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виц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лањ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тал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личит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тенц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екци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отетск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док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че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ародонтопат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обр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игиј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burning-tongue"/>
          <p:cNvPicPr/>
          <p:nvPr/>
        </p:nvPicPr>
        <p:blipFill>
          <a:blip r:embed="rId1"/>
          <a:stretch/>
        </p:blipFill>
        <p:spPr>
          <a:xfrm>
            <a:off x="4815000" y="1905120"/>
            <a:ext cx="4267080" cy="30477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85840" y="685800"/>
            <a:ext cx="48006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ТЕРАПИЈ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5105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еловањ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а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пшт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фак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че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пшт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бољењ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арадњ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карим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личит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пецијалнос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хематол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еуматол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физијатар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сихијата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pekuca usta"/>
          <p:cNvPicPr/>
          <p:nvPr/>
        </p:nvPicPr>
        <p:blipFill>
          <a:blip r:embed="rId1"/>
          <a:stretch/>
        </p:blipFill>
        <p:spPr>
          <a:xfrm>
            <a:off x="2457360" y="3886200"/>
            <a:ext cx="2648160" cy="2790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58" name="Picture 5" descr="lem0211fireeater"/>
          <p:cNvPicPr/>
          <p:nvPr/>
        </p:nvPicPr>
        <p:blipFill>
          <a:blip r:embed="rId2"/>
          <a:srcRect l="0" t="12356" r="0" b="20225"/>
          <a:stretch/>
        </p:blipFill>
        <p:spPr>
          <a:xfrm>
            <a:off x="5826240" y="1676520"/>
            <a:ext cx="2860560" cy="2519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59" name="Picture 6" descr="rheu_arthritis"/>
          <p:cNvPicPr/>
          <p:nvPr/>
        </p:nvPicPr>
        <p:blipFill>
          <a:blip r:embed="rId3"/>
          <a:stretch/>
        </p:blipFill>
        <p:spPr>
          <a:xfrm>
            <a:off x="5826240" y="4419720"/>
            <a:ext cx="2828880" cy="22572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38480" y="609480"/>
            <a:ext cx="464832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ТЕРАПИЈ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Симптоматска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ок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естетичка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тисептич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тимикотич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дстригент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усти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физикал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тод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ч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имулаци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учења пљувач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јет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схр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ештачка пљува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асер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ал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на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pekuca usta"/>
          <p:cNvPicPr/>
          <p:nvPr/>
        </p:nvPicPr>
        <p:blipFill>
          <a:blip r:embed="rId1"/>
          <a:stretch/>
        </p:blipFill>
        <p:spPr>
          <a:xfrm>
            <a:off x="4229280" y="4513320"/>
            <a:ext cx="2133360" cy="2133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63" name="Picture 7" descr="result (14)"/>
          <p:cNvPicPr/>
          <p:nvPr/>
        </p:nvPicPr>
        <p:blipFill>
          <a:blip r:embed="rId2"/>
          <a:stretch/>
        </p:blipFill>
        <p:spPr>
          <a:xfrm>
            <a:off x="5486400" y="1676520"/>
            <a:ext cx="3200400" cy="22604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64" name="Picture 8" descr="vodice-za-ispiranje-usta-ilustracija-midi"/>
          <p:cNvPicPr/>
          <p:nvPr/>
        </p:nvPicPr>
        <p:blipFill>
          <a:blip r:embed="rId3"/>
          <a:stretch/>
        </p:blipFill>
        <p:spPr>
          <a:xfrm>
            <a:off x="6705720" y="4513320"/>
            <a:ext cx="2209680" cy="2133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65" name="Picture 6" descr="Pomarandze"/>
          <p:cNvPicPr/>
          <p:nvPr/>
        </p:nvPicPr>
        <p:blipFill>
          <a:blip r:embed="rId4"/>
          <a:stretch/>
        </p:blipFill>
        <p:spPr>
          <a:xfrm>
            <a:off x="1994040" y="5557680"/>
            <a:ext cx="1828800" cy="10843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47920" y="765000"/>
            <a:ext cx="723888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РЕМЕЋАЈ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УКУС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4113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ецептор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ефлекс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ј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њају    ук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валите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слат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гор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кис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сл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баз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метал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валите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ређе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ирис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укус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белог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укус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црног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укус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кромп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укус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јабуке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др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ukusi5"/>
          <p:cNvPicPr/>
          <p:nvPr/>
        </p:nvPicPr>
        <p:blipFill>
          <a:blip r:embed="rId1"/>
          <a:stretch/>
        </p:blipFill>
        <p:spPr>
          <a:xfrm>
            <a:off x="5565600" y="1887480"/>
            <a:ext cx="313056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3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3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3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3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14240" y="685800"/>
            <a:ext cx="61722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РЕМЕЋАЈ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УКУС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029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рх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з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в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валите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очни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ранам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з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 с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сла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         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гор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         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кис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ен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з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кис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ндоге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  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к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ков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рвни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уте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ињекци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измут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ај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металног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ukusi"/>
          <p:cNvPicPr/>
          <p:nvPr/>
        </p:nvPicPr>
        <p:blipFill>
          <a:blip r:embed="rId1"/>
          <a:stretch/>
        </p:blipFill>
        <p:spPr>
          <a:xfrm>
            <a:off x="5867280" y="4724280"/>
            <a:ext cx="2838600" cy="19065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72" name="Text Box 5"/>
          <p:cNvSpPr/>
          <p:nvPr/>
        </p:nvSpPr>
        <p:spPr>
          <a:xfrm>
            <a:off x="5562720" y="3048120"/>
            <a:ext cx="358128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ремећај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0000"/>
                </a:solidFill>
                <a:latin typeface="Arial"/>
              </a:rPr>
              <a:t>Ageu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Hypogeu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Dysgeu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ukusi"/>
          <p:cNvPicPr/>
          <p:nvPr/>
        </p:nvPicPr>
        <p:blipFill>
          <a:blip r:embed="rId2"/>
          <a:stretch/>
        </p:blipFill>
        <p:spPr>
          <a:xfrm>
            <a:off x="5819760" y="1600200"/>
            <a:ext cx="3019320" cy="13716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4720" y="765000"/>
            <a:ext cx="440208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РЕМЕЋАЈ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УКУС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Ageusia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(потпун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достатак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ку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достатак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ожданој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р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бласт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хипокампусног гир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еки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tractus-a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solitarius-a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 пон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Делимичн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губитак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ку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рвн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лез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лезиј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 chorde tymp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Otitis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- Herpes zoster oticus</a:t>
            </a:r>
            <a:r>
              <a:rPr b="1" i="1" lang="sr-Latn-CS" sz="16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617220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Терапија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је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ома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омплек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smell-and-taste-disorders"/>
          <p:cNvPicPr/>
          <p:nvPr/>
        </p:nvPicPr>
        <p:blipFill>
          <a:blip r:embed="rId1"/>
          <a:stretch/>
        </p:blipFill>
        <p:spPr>
          <a:xfrm>
            <a:off x="4708440" y="1643040"/>
            <a:ext cx="3905280" cy="24764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78" name="Picture 7" descr="ukusi"/>
          <p:cNvPicPr/>
          <p:nvPr/>
        </p:nvPicPr>
        <p:blipFill>
          <a:blip r:embed="rId2"/>
          <a:stretch/>
        </p:blipFill>
        <p:spPr>
          <a:xfrm>
            <a:off x="5327640" y="4343400"/>
            <a:ext cx="2666880" cy="22478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09680" y="685800"/>
            <a:ext cx="647712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РЕМЕЋАЈ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УКУС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6095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Hypogeu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(смањен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сећај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ку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тешких пуш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соб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мањеним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ири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к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глос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Dysgeu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(осећај парауку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сећај љут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лан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горк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еталн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без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тварн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кус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в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тровањ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тешким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ета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галваниз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уростениј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ождан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атеросклер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в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оремаћај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астај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оследиц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дражењ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арaсимпатичк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влакан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chorde tymp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wm-Smell and Taste"/>
          <p:cNvPicPr/>
          <p:nvPr/>
        </p:nvPicPr>
        <p:blipFill>
          <a:blip r:embed="rId1"/>
          <a:stretch/>
        </p:blipFill>
        <p:spPr>
          <a:xfrm>
            <a:off x="6172200" y="4619520"/>
            <a:ext cx="2743200" cy="20574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82" name="Picture 5" descr="dah-i-zubi-450"/>
          <p:cNvPicPr/>
          <p:nvPr/>
        </p:nvPicPr>
        <p:blipFill>
          <a:blip r:embed="rId2"/>
          <a:stretch/>
        </p:blipFill>
        <p:spPr>
          <a:xfrm>
            <a:off x="6781680" y="2666880"/>
            <a:ext cx="2133720" cy="17352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83" name="Picture 6" descr="smoking"/>
          <p:cNvPicPr/>
          <p:nvPr/>
        </p:nvPicPr>
        <p:blipFill>
          <a:blip r:embed="rId3"/>
          <a:stretch/>
        </p:blipFill>
        <p:spPr>
          <a:xfrm>
            <a:off x="4648320" y="1676520"/>
            <a:ext cx="2743200" cy="14713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373356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ЛЕРГИЈСКЕ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АЛНЕ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ЛУЗОКОЖЕ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14800" y="836280"/>
            <a:ext cx="45720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ПИДЕМИОЛОГ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853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ME" sz="2000" spc="-1" strike="noStrike">
                <a:solidFill>
                  <a:srgbClr val="330033"/>
                </a:solidFill>
                <a:latin typeface="Arial"/>
              </a:rPr>
              <a:t>чешћ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ME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ављ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; 16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: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ист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оматолошко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линиц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68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олесн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-  48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20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ушкар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русалим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44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олесника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37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7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ушкар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ођ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400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олесн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- 111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70,7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%) жена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46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29,3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%)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ушкар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оди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рос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-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20 –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осек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оди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-   54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од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bocca-urente"/>
          <p:cNvPicPr/>
          <p:nvPr/>
        </p:nvPicPr>
        <p:blipFill>
          <a:blip r:embed="rId1"/>
          <a:stretch/>
        </p:blipFill>
        <p:spPr>
          <a:xfrm>
            <a:off x="5562720" y="4343400"/>
            <a:ext cx="2895480" cy="19638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82072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Алергијске реакције 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у неочекиване клиничке манифестације, које настају услед измењеног реаговања имунокомпатибилних ћелија (макрофаге, моноцити, лимфоцити, базофили и мастоцити) против страних материја (ткива, бактерија, вируса и др.)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3580920"/>
            <a:ext cx="80629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Сензибилизација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стаје презентацијом антигене материје од стране антиген-презентирајуцих ћелија (макрофаге и лимфоцит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ворена антитела настају на неке сопствене материје, чиме се објашњавају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утоимуна обољ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5562720"/>
            <a:ext cx="7927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Псеудоалергиј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интолеранција настаје фармаколошким својствима унетих супстан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9135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 су супстанце егзогеног или ендогеног порекла које могу да изазову имуни одго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ХАПТ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ају само антигеност, али не индукују стварање анти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986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ПРИРОДНИ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теини, липиди, нуклеинске киселине, ткивни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ВЕШТАЧКИ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нтетски полипептид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њуговани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http://www.alfamedic.rs/images/alergologija/alergologija1.jpg"/>
          <p:cNvPicPr/>
          <p:nvPr/>
        </p:nvPicPr>
        <p:blipFill>
          <a:blip r:embed="rId1"/>
          <a:stretch/>
        </p:blipFill>
        <p:spPr>
          <a:xfrm>
            <a:off x="3886200" y="3581280"/>
            <a:ext cx="4952880" cy="2992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533160"/>
            <a:ext cx="8964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ОДЕЛА АНТИГЕНА ПРЕМА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ГЕНЕТСКОЈ РАЗЛИЦ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утолог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 истог орга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логенич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 јединке исте вр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сеногенич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 јединке друге вр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ингенич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 генетички исте вр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Хетерофил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једнички за различите вр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http://www.vaseljenska.com/wp-content/uploads/2012/09/hiv-sida-aids.jpg"/>
          <p:cNvPicPr/>
          <p:nvPr/>
        </p:nvPicPr>
        <p:blipFill>
          <a:blip r:embed="rId1"/>
          <a:stretch/>
        </p:blipFill>
        <p:spPr>
          <a:xfrm>
            <a:off x="4038480" y="4025880"/>
            <a:ext cx="4840560" cy="2594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http://www.nordvik.rs/wp-content/uploads/2012/12/alergije1.jpg"/>
          <p:cNvPicPr/>
          <p:nvPr/>
        </p:nvPicPr>
        <p:blipFill>
          <a:blip r:embed="rId2"/>
          <a:stretch/>
        </p:blipFill>
        <p:spPr>
          <a:xfrm>
            <a:off x="380880" y="4033800"/>
            <a:ext cx="320040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68580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ОДЕЛА АНТИГЕНА ПРЕМА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ГЕНЕТСКОЈ РАЗЛИЦ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7786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гени се налазе на кратком краку 6 хромоз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лекс гена има више ло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куси HLA су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са 20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B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са 42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C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са 8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са 12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D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са 10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 класе I: HLA-A, HLA-B и HLA-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 класе II: HLA-D и HLA-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762120" y="1828800"/>
            <a:ext cx="56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stem HLA – Human Leucocyte antigen tip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163440" y="-2865600"/>
            <a:ext cx="7267680" cy="59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http://www.medicaljournals.se/acta/content/files/web/3320-web-images/3320fig3_fmt.jpeg"/>
          <p:cNvPicPr/>
          <p:nvPr/>
        </p:nvPicPr>
        <p:blipFill>
          <a:blip r:embed="rId1"/>
          <a:stretch/>
        </p:blipFill>
        <p:spPr>
          <a:xfrm>
            <a:off x="5429160" y="5019840"/>
            <a:ext cx="3714840" cy="18381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АНТИТЕЛА - ИМУНОГЛОБУЛИН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82072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муноглобулин Г (IgG)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% од свих Иг, везује се за Фц- фрагмен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итофилан је и има 4 подкла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муноглобулин М (IgM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муноглобулин А (ИгА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креторни имуноглобули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силац је локалног имунит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а две субкла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муноглобулин Е (IgE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агинско антител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зује се за Фц-рецепто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азофилних гранулоцит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стоц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Моноклонкса анти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http://static.framar.bg/snimki/zabolyavaniya/imunodeficit-s-preobladavasht-defekt-na-antitel.-neutochnen.jpg"/>
          <p:cNvPicPr/>
          <p:nvPr/>
        </p:nvPicPr>
        <p:blipFill>
          <a:blip r:embed="rId1"/>
          <a:stretch/>
        </p:blipFill>
        <p:spPr>
          <a:xfrm>
            <a:off x="4978440" y="2743200"/>
            <a:ext cx="3984480" cy="36860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ИМУНОЛОШКЕ РЕАКЦИЈ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907920"/>
            <a:ext cx="80661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Рани тип хиперсензибил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Тип </a:t>
            </a:r>
            <a:r>
              <a:rPr b="1" i="1" lang="en-GB" sz="2000" spc="-1" strike="noStrike">
                <a:solidFill>
                  <a:srgbClr val="002060"/>
                </a:solidFill>
                <a:latin typeface="Arial"/>
              </a:rPr>
              <a:t>I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афилактички 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алергијска аст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уртикар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поленска грозница и 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Тип </a:t>
            </a:r>
            <a:r>
              <a:rPr b="1" i="1" lang="en-GB" sz="2000" spc="-1" strike="noStrike">
                <a:solidFill>
                  <a:srgbClr val="002060"/>
                </a:solidFill>
                <a:latin typeface="Arial"/>
              </a:rPr>
              <a:t>II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емолитичка 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пурп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аутоимун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Тип III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тусова реа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румск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ф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09480" y="4653000"/>
            <a:ext cx="80661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Касни тип преосетљ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стају после 24 и више часова. У овим реакцијама учествују Т-лимфоцити за чију се површину везују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осетљивост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актериј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рус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разит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контактн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рмат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http://home.allergicchild.com/wp-content/uploads/2012/07/allergy1.jpg"/>
          <p:cNvPicPr/>
          <p:nvPr/>
        </p:nvPicPr>
        <p:blipFill>
          <a:blip r:embed="rId1"/>
          <a:stretch/>
        </p:blipFill>
        <p:spPr>
          <a:xfrm>
            <a:off x="5886360" y="1752480"/>
            <a:ext cx="29527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КЛИНИЧКЕ МАНИФЕСТАЦИЈЕ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АЛЕРГИЈСКИХ РЕАКЦ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835280" y="1905120"/>
            <a:ext cx="69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1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omatitis aller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anthema fix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edema angioneurotic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omatitis conta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TOMATITIS ALLERGIC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484280"/>
            <a:ext cx="8305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Антиген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гзогени (бактерије, вируси, храна, леков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ндогени (трансформација аутогеног материја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Оралне промене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Знаци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нантем оралне слузокоже, едем оралне слузокоже (јавља се импресија зуба), ерозије и улцерације оралне слузокоже, ретко нек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Симптоми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ечење, жарење, бол, задах из уста, отежана исхрана - дехидратац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st allergica ab"/>
          <p:cNvPicPr/>
          <p:nvPr/>
        </p:nvPicPr>
        <p:blipFill>
          <a:blip r:embed="rId1"/>
          <a:srcRect l="5204" t="9561" r="10888" b="0"/>
          <a:stretch/>
        </p:blipFill>
        <p:spPr>
          <a:xfrm>
            <a:off x="5364000" y="4870440"/>
            <a:ext cx="2451240" cy="17780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TOMATITIS ALLERGIC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Диференцијална дијагн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rythema exudativum multif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emphigus vulg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chen pl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станак узимања л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гијенско-дијететски 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хистами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унгиц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http://1.bp.blogspot.com/-m_gqWV53k1k/Tk-y0aS1ACI/AAAAAAAACxk/z9C6EI1g_mg/s640/Allergic%2Bstomatitis%2Bcaused%2Bby%2Bacrylic%2Bresin.png"/>
          <p:cNvPicPr/>
          <p:nvPr/>
        </p:nvPicPr>
        <p:blipFill>
          <a:blip r:embed="rId1"/>
          <a:stretch/>
        </p:blipFill>
        <p:spPr>
          <a:xfrm>
            <a:off x="4876920" y="3924360"/>
            <a:ext cx="4047840" cy="2781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http://dc150.4shared.com/doc/27MNDEMH/preview_html_26665746.gif"/>
          <p:cNvPicPr/>
          <p:nvPr/>
        </p:nvPicPr>
        <p:blipFill>
          <a:blip r:embed="rId2"/>
          <a:stretch/>
        </p:blipFill>
        <p:spPr>
          <a:xfrm>
            <a:off x="5486400" y="1563840"/>
            <a:ext cx="3432240" cy="21031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ENANTHEMA FIXU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8153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Антиген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лекови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сулфопрепара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биотици, аспир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хра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конзерванси, салици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Оралне проме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непцу и јез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граничен енан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зик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ро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пертрофија језичног покрив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дидиј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enanthema fixum"/>
          <p:cNvPicPr/>
          <p:nvPr/>
        </p:nvPicPr>
        <p:blipFill>
          <a:blip r:embed="rId1"/>
          <a:srcRect l="13624" t="10147" r="23114" b="4348"/>
          <a:stretch/>
        </p:blipFill>
        <p:spPr>
          <a:xfrm>
            <a:off x="6300720" y="4076640"/>
            <a:ext cx="2664000" cy="24195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19" name="Picture 6" descr="alergija na eugenol"/>
          <p:cNvPicPr/>
          <p:nvPr/>
        </p:nvPicPr>
        <p:blipFill>
          <a:blip r:embed="rId2"/>
          <a:srcRect l="4195" t="0" r="0" b="0"/>
          <a:stretch/>
        </p:blipFill>
        <p:spPr>
          <a:xfrm>
            <a:off x="6300720" y="1730520"/>
            <a:ext cx="2664000" cy="21556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836280"/>
            <a:ext cx="7086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ДЕЛА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ТИОЛОГ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Секундарн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  -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ратећ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диниј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ир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Локални</a:t>
            </a:r>
            <a:r>
              <a:rPr b="1" lang="sr-Latn-CS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ф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Општи</a:t>
            </a:r>
            <a:r>
              <a:rPr b="1" lang="sr-Latn-CS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ф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2. Прав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  -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есенцијалн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диниј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ир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burnx2"/>
          <p:cNvPicPr/>
          <p:nvPr/>
        </p:nvPicPr>
        <p:blipFill>
          <a:blip r:embed="rId1"/>
          <a:srcRect l="0" t="0" r="0" b="22509"/>
          <a:stretch/>
        </p:blipFill>
        <p:spPr>
          <a:xfrm>
            <a:off x="762120" y="4987800"/>
            <a:ext cx="5181480" cy="1535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drymouth"/>
          <p:cNvPicPr/>
          <p:nvPr/>
        </p:nvPicPr>
        <p:blipFill>
          <a:blip r:embed="rId2"/>
          <a:stretch/>
        </p:blipFill>
        <p:spPr>
          <a:xfrm>
            <a:off x="6781680" y="4443480"/>
            <a:ext cx="2200320" cy="19936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13" name="Picture 8" descr="images"/>
          <p:cNvPicPr/>
          <p:nvPr/>
        </p:nvPicPr>
        <p:blipFill>
          <a:blip r:embed="rId3"/>
          <a:stretch/>
        </p:blipFill>
        <p:spPr>
          <a:xfrm>
            <a:off x="6781680" y="2190600"/>
            <a:ext cx="2119320" cy="16671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ENANTHEMA FIXU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кључење л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гијенско-дијететски 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http://sideeffectsz.com/wp-content/uploads/2013/02/bactrim-5.jpg"/>
          <p:cNvPicPr/>
          <p:nvPr/>
        </p:nvPicPr>
        <p:blipFill>
          <a:blip r:embed="rId1"/>
          <a:stretch/>
        </p:blipFill>
        <p:spPr>
          <a:xfrm>
            <a:off x="5486400" y="3733920"/>
            <a:ext cx="3105000" cy="2666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www.steadyhealth.com/109076/Image/antibiotics_pills.jpg"/>
          <p:cNvPicPr/>
          <p:nvPr/>
        </p:nvPicPr>
        <p:blipFill>
          <a:blip r:embed="rId2"/>
          <a:stretch/>
        </p:blipFill>
        <p:spPr>
          <a:xfrm>
            <a:off x="914400" y="3733920"/>
            <a:ext cx="3532320" cy="26492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OEDEMA ANGIONEUROTICU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93280" y="1671120"/>
            <a:ext cx="85345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Наследна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форма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достатак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хибитор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лестер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утозомно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минантно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ољ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Стечена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форма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лергиј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г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естет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моционалн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е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Оралне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промене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гл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лов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лав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ц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ко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пц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језик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лотис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па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у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143000" y="10666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лергијска реакција раног типа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gE, Ig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angioedem"/>
          <p:cNvPicPr/>
          <p:nvPr/>
        </p:nvPicPr>
        <p:blipFill>
          <a:blip r:embed="rId1"/>
          <a:stretch/>
        </p:blipFill>
        <p:spPr>
          <a:xfrm>
            <a:off x="7308720" y="2895480"/>
            <a:ext cx="1589040" cy="2159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28" name="Picture 7" descr="angioneuroticni edem"/>
          <p:cNvPicPr/>
          <p:nvPr/>
        </p:nvPicPr>
        <p:blipFill>
          <a:blip r:embed="rId2"/>
          <a:srcRect l="0" t="7705" r="0" b="9824"/>
          <a:stretch/>
        </p:blipFill>
        <p:spPr>
          <a:xfrm>
            <a:off x="6875640" y="1179360"/>
            <a:ext cx="2022120" cy="15829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wheel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OEDEMA ANGIONEUROTICU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534520" cy="33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Диференцијална дијагн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а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руршки емфиз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eilitis granulomat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lkersson-Rosenthal syndrom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хистами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дрена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403280" y="981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лергијска реакција раног типа (IgE, Ig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http://t0.gstatic.com/images?q=tbn:ANd9GcRueSXzEX6y0XuA1a_ohjLR9Q2Xf7J3qxcqHclcOQ0TpgiIOV6E"/>
          <p:cNvPicPr/>
          <p:nvPr/>
        </p:nvPicPr>
        <p:blipFill>
          <a:blip r:embed="rId1"/>
          <a:stretch/>
        </p:blipFill>
        <p:spPr>
          <a:xfrm>
            <a:off x="5978520" y="4564080"/>
            <a:ext cx="2978280" cy="2203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http://t0.gstatic.com/images?q=tbn:ANd9GcQpWrWZeD-lkB38PEctyzBCzBcyddi6Dr16uObLwew5EnLjO8mD"/>
          <p:cNvPicPr/>
          <p:nvPr/>
        </p:nvPicPr>
        <p:blipFill>
          <a:blip r:embed="rId2"/>
          <a:stretch/>
        </p:blipFill>
        <p:spPr>
          <a:xfrm>
            <a:off x="5978520" y="2265480"/>
            <a:ext cx="297828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TOMATITIS CONTACT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38242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Промене на усна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нан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д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роз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 и затегнутост у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Оралне промен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ритем оралне слузоко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д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зик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роз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685800" y="1052640"/>
            <a:ext cx="295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eilitis aller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ergija na akri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3708360" y="112536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468360" y="213372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9" descr="http://img.medscape.com/pi/emed/ckb/dermatology/1048885-1076589-1530tn.jpg"/>
          <p:cNvPicPr/>
          <p:nvPr/>
        </p:nvPicPr>
        <p:blipFill>
          <a:blip r:embed="rId1"/>
          <a:stretch/>
        </p:blipFill>
        <p:spPr>
          <a:xfrm>
            <a:off x="5257800" y="4336920"/>
            <a:ext cx="3124080" cy="196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http://img.medscape.com/pi/emed/ckb/dermatology/1048885-1076589-1527tn.jpg"/>
          <p:cNvPicPr/>
          <p:nvPr/>
        </p:nvPicPr>
        <p:blipFill>
          <a:blip r:embed="rId2"/>
          <a:stretch/>
        </p:blipFill>
        <p:spPr>
          <a:xfrm>
            <a:off x="5257800" y="2009880"/>
            <a:ext cx="3087720" cy="2114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TOMATITIS CONTACT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7879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Диференцијална дијагн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ауматски ефекат  од прот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емијска оштећ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рмичка оштећ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дид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стемск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клањање уз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хистами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alergija na akrilat"/>
          <p:cNvPicPr/>
          <p:nvPr/>
        </p:nvPicPr>
        <p:blipFill>
          <a:blip r:embed="rId1"/>
          <a:srcRect l="0" t="7165" r="0" b="0"/>
          <a:stretch/>
        </p:blipFill>
        <p:spPr>
          <a:xfrm>
            <a:off x="4876920" y="2992320"/>
            <a:ext cx="3362040" cy="3005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wheel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ДИЈАГНОЗА АЛЕРГИЈСКИХ РЕАКЦ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Testovi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in v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ст експози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th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ба уб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тода скарификације 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ratch 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ausnitz-Kustner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вокациони т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http://dermnetnz.org/procedures/img/ptest1-s.jpg"/>
          <p:cNvPicPr/>
          <p:nvPr/>
        </p:nvPicPr>
        <p:blipFill>
          <a:blip r:embed="rId1"/>
          <a:stretch/>
        </p:blipFill>
        <p:spPr>
          <a:xfrm>
            <a:off x="5410080" y="1636560"/>
            <a:ext cx="2973600" cy="2230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http://www.laserdermatologynyc.com/images/text/skin-allergy/patch-testing.jpg"/>
          <p:cNvPicPr/>
          <p:nvPr/>
        </p:nvPicPr>
        <p:blipFill>
          <a:blip r:embed="rId2"/>
          <a:stretch/>
        </p:blipFill>
        <p:spPr>
          <a:xfrm>
            <a:off x="5410080" y="415296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188640"/>
            <a:ext cx="8534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ДИЈАГНОЗА АЛЕРГИЈСКИХ РЕАКЦ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94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естови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n vi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ципитацијске ре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лектрофор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ст дегранулације базофила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elly 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ст лимфоцитне трансформ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стови за одређивање хиста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http://www.embrn.eu/typo3temp/pics/2d4f24678f.png"/>
          <p:cNvPicPr/>
          <p:nvPr/>
        </p:nvPicPr>
        <p:blipFill>
          <a:blip r:embed="rId1"/>
          <a:stretch/>
        </p:blipFill>
        <p:spPr>
          <a:xfrm>
            <a:off x="5334120" y="2133720"/>
            <a:ext cx="3155760" cy="40194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ТЕРАПИЈА АЛЕРГИЈСКИХ РЕАКЦ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525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клањање узроч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мпатикомиметици - адрена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тико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парати калциј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хистами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https://encrypted-tbn3.gstatic.com/images?q=tbn:ANd9GcRFHFGpkwAUFi0RtsGp_2sDitqcOubyRmhwdwR3MSMu2M6vibCLdA"/>
          <p:cNvPicPr/>
          <p:nvPr/>
        </p:nvPicPr>
        <p:blipFill>
          <a:blip r:embed="rId1"/>
          <a:stretch/>
        </p:blipFill>
        <p:spPr>
          <a:xfrm>
            <a:off x="5791320" y="39625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http://3.imimg.com/data3/NX/PS/MY-633643/anti-allergic-drug-250x250.png"/>
          <p:cNvPicPr/>
          <p:nvPr/>
        </p:nvPicPr>
        <p:blipFill>
          <a:blip r:embed="rId2"/>
          <a:stretch/>
        </p:blipFill>
        <p:spPr>
          <a:xfrm>
            <a:off x="5791320" y="106668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556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ЕКУНДАР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ЛОКАЛН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ФАКТОР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вој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номалиј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јез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Lingua plic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вој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ома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атећ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нак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ндокрин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ремећ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итаминск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ефиц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уролошк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Glossitis rombica med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вој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ома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рони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иперпласти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ндидиј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lingva plicata 1"/>
          <p:cNvPicPr/>
          <p:nvPr/>
        </p:nvPicPr>
        <p:blipFill>
          <a:blip r:embed="rId1"/>
          <a:stretch/>
        </p:blipFill>
        <p:spPr>
          <a:xfrm>
            <a:off x="6819840" y="1708200"/>
            <a:ext cx="1897200" cy="168264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17" name="Picture 5" descr="rombica"/>
          <p:cNvPicPr/>
          <p:nvPr/>
        </p:nvPicPr>
        <p:blipFill>
          <a:blip r:embed="rId2"/>
          <a:srcRect l="0" t="0" r="0" b="22441"/>
          <a:stretch/>
        </p:blipFill>
        <p:spPr>
          <a:xfrm>
            <a:off x="2133720" y="5575320"/>
            <a:ext cx="1873080" cy="113508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18" name="Picture 6" descr="rombica 2"/>
          <p:cNvPicPr/>
          <p:nvPr/>
        </p:nvPicPr>
        <p:blipFill>
          <a:blip r:embed="rId3"/>
          <a:srcRect l="0" t="11557" r="0" b="0"/>
          <a:stretch/>
        </p:blipFill>
        <p:spPr>
          <a:xfrm>
            <a:off x="4386240" y="5575320"/>
            <a:ext cx="1960560" cy="11095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19" name="Picture 7" descr="lingva plicata 2"/>
          <p:cNvPicPr/>
          <p:nvPr/>
        </p:nvPicPr>
        <p:blipFill>
          <a:blip r:embed="rId4"/>
          <a:stretch/>
        </p:blipFill>
        <p:spPr>
          <a:xfrm>
            <a:off x="6819840" y="3487680"/>
            <a:ext cx="1897200" cy="161784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333000"/>
            <a:ext cx="792468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ЕКУНДАР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br>
              <a:rPr sz="3200"/>
            </a:b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ОПШТ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ФАКТОР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0755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роме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језичном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кривач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зич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кривач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чи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нчаст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ечуркаст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апи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тац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есквамира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ћел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актер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љува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anemija 1"/>
          <p:cNvPicPr/>
          <p:nvPr/>
        </p:nvPicPr>
        <p:blipFill>
          <a:blip r:embed="rId1"/>
          <a:stretch/>
        </p:blipFill>
        <p:spPr>
          <a:xfrm>
            <a:off x="6622920" y="1749600"/>
            <a:ext cx="2063880" cy="20732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23" name="Picture 5" descr="hipertrfija"/>
          <p:cNvPicPr/>
          <p:nvPr/>
        </p:nvPicPr>
        <p:blipFill>
          <a:blip r:embed="rId2"/>
          <a:stretch/>
        </p:blipFill>
        <p:spPr>
          <a:xfrm>
            <a:off x="1332000" y="4365720"/>
            <a:ext cx="2592360" cy="21333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24" name="Picture 6" descr="filiformne-papile-izgledaju-poput-kratkih-niti-i-rasprostranjene-su-po-čitavom-jeziku-a-gljivolike-fungiformne-papile-nalaze-se-na-vršku-jezika"/>
          <p:cNvPicPr/>
          <p:nvPr/>
        </p:nvPicPr>
        <p:blipFill>
          <a:blip r:embed="rId3"/>
          <a:stretch/>
        </p:blipFill>
        <p:spPr>
          <a:xfrm>
            <a:off x="4952880" y="4365720"/>
            <a:ext cx="2895840" cy="21333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333000"/>
            <a:ext cx="80773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ЕКУНДАР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br>
              <a:rPr sz="3200"/>
            </a:b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ОПШТ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ФАКТОР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90392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трофија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језичног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крив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иперхром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галобласти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ернициоз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достатак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итами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руп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цироз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т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ков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антибиотиц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тикостероид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аразитар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бољењ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гестивн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р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ндокри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ремећај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надбубреж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лезд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јаб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ламер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инсонов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ра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ерапи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едел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лав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р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anemija"/>
          <p:cNvPicPr/>
          <p:nvPr/>
        </p:nvPicPr>
        <p:blipFill>
          <a:blip r:embed="rId1"/>
          <a:stretch/>
        </p:blipFill>
        <p:spPr>
          <a:xfrm>
            <a:off x="6567480" y="1676520"/>
            <a:ext cx="2471760" cy="20984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28" name="Picture 5" descr="sideropenicna anemija 2"/>
          <p:cNvPicPr/>
          <p:nvPr/>
        </p:nvPicPr>
        <p:blipFill>
          <a:blip r:embed="rId2"/>
          <a:srcRect l="11240" t="0" r="0" b="0"/>
          <a:stretch/>
        </p:blipFill>
        <p:spPr>
          <a:xfrm>
            <a:off x="6567480" y="4495680"/>
            <a:ext cx="2471760" cy="21700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29" name="Picture 6" descr="atrofija pokrivaca"/>
          <p:cNvPicPr/>
          <p:nvPr/>
        </p:nvPicPr>
        <p:blipFill>
          <a:blip r:embed="rId3"/>
          <a:srcRect l="0" t="21334" r="0" b="7677"/>
          <a:stretch/>
        </p:blipFill>
        <p:spPr>
          <a:xfrm>
            <a:off x="4191120" y="5562720"/>
            <a:ext cx="1981080" cy="11030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260280"/>
            <a:ext cx="7924680" cy="11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ЕКУНДАР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br>
              <a:rPr sz="3200"/>
            </a:b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ОПШТ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ФАКТОР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075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ME" sz="2400" spc="-1" strike="noStrike">
                <a:solidFill>
                  <a:srgbClr val="ff0000"/>
                </a:solidFill>
                <a:latin typeface="Arial"/>
              </a:rPr>
              <a:t>б .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ипертрофија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језичног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крив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фебри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нзумир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шаст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ош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игиј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мањен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уче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љувачк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</a:t>
            </a:r>
            <a:r>
              <a:rPr b="1" lang="sr-ME" sz="2000" spc="-1" strike="noStrike">
                <a:solidFill>
                  <a:srgbClr val="330033"/>
                </a:solidFill>
                <a:latin typeface="Arial"/>
              </a:rPr>
              <a:t>кс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ростоми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с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екомерн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уш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бољењ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лу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контролиса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јаб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ндид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рој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hipertrofija 2"/>
          <p:cNvPicPr/>
          <p:nvPr/>
        </p:nvPicPr>
        <p:blipFill>
          <a:blip r:embed="rId1"/>
          <a:stretch/>
        </p:blipFill>
        <p:spPr>
          <a:xfrm>
            <a:off x="6602400" y="1730520"/>
            <a:ext cx="2389320" cy="2307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33" name="Picture 5" descr="hipertrofija 1"/>
          <p:cNvPicPr/>
          <p:nvPr/>
        </p:nvPicPr>
        <p:blipFill>
          <a:blip r:embed="rId2"/>
          <a:stretch/>
        </p:blipFill>
        <p:spPr>
          <a:xfrm>
            <a:off x="6602400" y="4424400"/>
            <a:ext cx="2389320" cy="21477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34" name="Picture 6" descr="oblozen jezik1"/>
          <p:cNvPicPr/>
          <p:nvPr/>
        </p:nvPicPr>
        <p:blipFill>
          <a:blip r:embed="rId3"/>
          <a:srcRect l="23570" t="26767" r="27272" b="27351"/>
          <a:stretch/>
        </p:blipFill>
        <p:spPr>
          <a:xfrm>
            <a:off x="3730680" y="4888080"/>
            <a:ext cx="2517840" cy="1763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66391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СЕНЦИЈАЛ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урохормонални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исбала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лимакс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нопауз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сихичко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моционално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стабилношћ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лоп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“ендокрин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сихосиндрома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сихореактив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его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оме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лузокож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сле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рос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достат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строг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ријад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импто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екућ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ув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лтерира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burning mouth syndrome"/>
          <p:cNvPicPr/>
          <p:nvPr/>
        </p:nvPicPr>
        <p:blipFill>
          <a:blip r:embed="rId1"/>
          <a:stretch/>
        </p:blipFill>
        <p:spPr>
          <a:xfrm>
            <a:off x="152280" y="4495680"/>
            <a:ext cx="2476800" cy="1847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8" name="Picture 5" descr="dry_tongue_mouth"/>
          <p:cNvPicPr/>
          <p:nvPr/>
        </p:nvPicPr>
        <p:blipFill>
          <a:blip r:embed="rId2"/>
          <a:stretch/>
        </p:blipFill>
        <p:spPr>
          <a:xfrm>
            <a:off x="6105600" y="3809880"/>
            <a:ext cx="2743200" cy="26877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45632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СЕНЦИЈАЛ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r>
              <a:rPr b="1" lang="sr-Latn-C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075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Цервикална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пондил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дегенеративн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омен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вратним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шљено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ирадијац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атолошк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оцес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еко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истем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ранијалн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ртериосклеротичне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омене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рвним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уд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еко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богат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васкуларизациј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је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ток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ангинозн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ап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анцерофоб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r7_cervicalspondylosis"/>
          <p:cNvPicPr/>
          <p:nvPr/>
        </p:nvPicPr>
        <p:blipFill>
          <a:blip r:embed="rId1"/>
          <a:srcRect l="0" t="0" r="0" b="5764"/>
          <a:stretch/>
        </p:blipFill>
        <p:spPr>
          <a:xfrm>
            <a:off x="3270240" y="2895480"/>
            <a:ext cx="1828800" cy="14922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42" name="Picture 5" descr="spoondiloza"/>
          <p:cNvPicPr/>
          <p:nvPr/>
        </p:nvPicPr>
        <p:blipFill>
          <a:blip r:embed="rId2"/>
          <a:stretch/>
        </p:blipFill>
        <p:spPr>
          <a:xfrm>
            <a:off x="5334120" y="2895480"/>
            <a:ext cx="3657600" cy="14922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43" name="Picture 6" descr="aorta"/>
          <p:cNvPicPr/>
          <p:nvPr/>
        </p:nvPicPr>
        <p:blipFill>
          <a:blip r:embed="rId3"/>
          <a:stretch/>
        </p:blipFill>
        <p:spPr>
          <a:xfrm>
            <a:off x="5943600" y="4622760"/>
            <a:ext cx="2590920" cy="20131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09:23:47Z</dcterms:created>
  <dc:creator>Pejca</dc:creator>
  <dc:description/>
  <dc:language>en-US</dc:language>
  <cp:lastModifiedBy>John</cp:lastModifiedBy>
  <dcterms:modified xsi:type="dcterms:W3CDTF">2017-08-30T12:53:48Z</dcterms:modified>
  <cp:revision>132</cp:revision>
  <dc:subject/>
  <dc:title>ORALNE DINIJE I PIROZE</dc:title>
</cp:coreProperties>
</file>