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50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9.png" ContentType="image/png"/>
  <Override PartName="/ppt/media/image65.jpeg" ContentType="image/jpeg"/>
  <Override PartName="/ppt/media/image39.jpeg" ContentType="image/jpeg"/>
  <Override PartName="/ppt/media/image41.jpeg" ContentType="image/jpeg"/>
  <Override PartName="/ppt/media/image66.png" ContentType="image/png"/>
  <Override PartName="/ppt/media/image60.jpeg" ContentType="image/jpeg"/>
  <Override PartName="/ppt/media/image64.png" ContentType="image/png"/>
  <Override PartName="/ppt/media/image1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M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M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884-8CA0-4751-8D79-CC63321B019D}" type="slidenum">
              <a:rPr b="0" lang="sr-M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DC7C-04E3-4980-8864-161C8177E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F39-B6B5-454C-8451-BA716742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C51-6F46-46FE-B125-31F49154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A31-E7AA-4F46-A8DE-3805EE90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DC7-D1A3-48C5-8CD3-D0A63EFF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018F-669B-4E98-A6E8-D1F92139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6492-F03A-4367-8974-A2AD01AA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2808-A46F-41F1-978D-C4EFB2A4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6699-9029-4E3C-B866-D550F5B5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463E-D893-4F76-8005-CA98F8D8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40DB-198A-40B4-8E51-AA710173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3C26-4751-4050-84E9-7B7BCAC0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EAB-A9FA-4A8B-808D-2EA39610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8941-1FEE-4DF0-B7FF-FEB9FD2A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7AB9-5060-4B90-9203-DDE3FA4F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411D-BF0B-4EA0-9D34-4BF7AFA2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F83D-E112-419A-9EC2-AFDF824B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5530-16A4-49D6-A480-72D31AA5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EB9-9E30-437F-BC90-C020BC99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E89-95AF-4876-8B3D-77B6BE8A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683-9700-44CC-A402-98F30A66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464-63BA-4DB0-8EED-18A54CDA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8F8-A4FB-4430-BB01-F199BDE0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58B-EC19-477B-8D76-B6194D3B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391-E2F6-4F9E-8E79-9AD9EE7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212B-AA4B-4110-B96B-1D2EF0A34F08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D312-F201-44C4-9237-4A20F78CABB5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ОРАЛНЕ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ДИНИЈЕ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И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ПИРОЗЕ</a:t>
            </a:r>
            <a:br>
              <a:rPr sz="4000"/>
            </a:b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330033"/>
                </a:solidFill>
                <a:latin typeface="Times New Roman"/>
              </a:rPr>
              <a:t>ПОРЕМЕЋАЈ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330033"/>
                </a:solidFill>
                <a:latin typeface="Times New Roman"/>
              </a:rPr>
              <a:t>УКУС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858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STOMATODYNIA</a:t>
            </a: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STOMATOPY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GLOSSODY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GLOSSOPY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СИНДРОМ ПЕКУЋИХ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8551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59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ропатиј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n. trigeminu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стему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жданих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сихоге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ксиоз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преси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аски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церофоб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цен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в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имењу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А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инесот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амилтон-о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      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порем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euralgija trigeminusa"/>
          <p:cNvPicPr/>
          <p:nvPr/>
        </p:nvPicPr>
        <p:blipFill>
          <a:blip r:embed="rId1"/>
          <a:srcRect l="0" t="9301" r="0" b="6262"/>
          <a:stretch/>
        </p:blipFill>
        <p:spPr>
          <a:xfrm>
            <a:off x="6553080" y="4417920"/>
            <a:ext cx="2283120" cy="2287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7" name="Picture 5" descr="Nerv-trigeminus-e1307560710402-166x200"/>
          <p:cNvPicPr/>
          <p:nvPr/>
        </p:nvPicPr>
        <p:blipFill>
          <a:blip r:embed="rId2"/>
          <a:stretch/>
        </p:blipFill>
        <p:spPr>
          <a:xfrm>
            <a:off x="6019920" y="1600200"/>
            <a:ext cx="2404800" cy="2666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07732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КЛИНИЧК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ЛИКА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ФЕРЕНЦИЈАЛН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ЈАГНОЗ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4113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личит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окал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личит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ис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ен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моћ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них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ек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линичк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чног покрив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сква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ер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чног покрив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ероз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ређ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лцер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црвенил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то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лузок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ер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епител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сп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тез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ло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ез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какв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зн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убјектив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ег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ремећај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19360" y="1752120"/>
            <a:ext cx="47242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еуролошк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tempormandibulari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 glossopharynge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 trigemin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gangliona sphenopalatin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Papill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Neuritis trau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burning_mouth_080211_mn"/>
          <p:cNvPicPr/>
          <p:nvPr/>
        </p:nvPicPr>
        <p:blipFill>
          <a:blip r:embed="rId1"/>
          <a:stretch/>
        </p:blipFill>
        <p:spPr>
          <a:xfrm>
            <a:off x="5029200" y="4095720"/>
            <a:ext cx="3276720" cy="2457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48320" y="765000"/>
            <a:ext cx="40384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8974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еловањ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локалн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ф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к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приклад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лом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брињав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риоз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лач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штр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виц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лањ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тал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личит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к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тетс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док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обр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burning-tongue"/>
          <p:cNvPicPr/>
          <p:nvPr/>
        </p:nvPicPr>
        <p:blipFill>
          <a:blip r:embed="rId1"/>
          <a:stretch/>
        </p:blipFill>
        <p:spPr>
          <a:xfrm>
            <a:off x="4815000" y="1905120"/>
            <a:ext cx="4267080" cy="3047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85840" y="685800"/>
            <a:ext cx="4800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10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еловањ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пшт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ф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пшт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радњ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арим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личи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пецијалн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хематол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уматол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изијатар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ијат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pekuca usta"/>
          <p:cNvPicPr/>
          <p:nvPr/>
        </p:nvPicPr>
        <p:blipFill>
          <a:blip r:embed="rId1"/>
          <a:stretch/>
        </p:blipFill>
        <p:spPr>
          <a:xfrm>
            <a:off x="2457360" y="3886200"/>
            <a:ext cx="2648160" cy="2790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58" name="Picture 5" descr="lem0211fireeater"/>
          <p:cNvPicPr/>
          <p:nvPr/>
        </p:nvPicPr>
        <p:blipFill>
          <a:blip r:embed="rId2"/>
          <a:srcRect l="0" t="12356" r="0" b="20225"/>
          <a:stretch/>
        </p:blipFill>
        <p:spPr>
          <a:xfrm>
            <a:off x="5826240" y="1676520"/>
            <a:ext cx="2860560" cy="2519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59" name="Picture 6" descr="rheu_arthritis"/>
          <p:cNvPicPr/>
          <p:nvPr/>
        </p:nvPicPr>
        <p:blipFill>
          <a:blip r:embed="rId3"/>
          <a:stretch/>
        </p:blipFill>
        <p:spPr>
          <a:xfrm>
            <a:off x="5826240" y="4419720"/>
            <a:ext cx="2828880" cy="2257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38480" y="609480"/>
            <a:ext cx="464832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Симптоматск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к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стетичка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тисептич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тимикотич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дстригент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у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изикал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тод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имула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учења пљува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ет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сх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ештачка 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асер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ал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на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pekuca usta"/>
          <p:cNvPicPr/>
          <p:nvPr/>
        </p:nvPicPr>
        <p:blipFill>
          <a:blip r:embed="rId1"/>
          <a:stretch/>
        </p:blipFill>
        <p:spPr>
          <a:xfrm>
            <a:off x="4229280" y="4513320"/>
            <a:ext cx="2133360" cy="2133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3" name="Picture 7" descr="result (14)"/>
          <p:cNvPicPr/>
          <p:nvPr/>
        </p:nvPicPr>
        <p:blipFill>
          <a:blip r:embed="rId2"/>
          <a:stretch/>
        </p:blipFill>
        <p:spPr>
          <a:xfrm>
            <a:off x="5486400" y="1676520"/>
            <a:ext cx="3200400" cy="2260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4" name="Picture 8" descr="vodice-za-ispiranje-usta-ilustracija-midi"/>
          <p:cNvPicPr/>
          <p:nvPr/>
        </p:nvPicPr>
        <p:blipFill>
          <a:blip r:embed="rId3"/>
          <a:stretch/>
        </p:blipFill>
        <p:spPr>
          <a:xfrm>
            <a:off x="6705720" y="4513320"/>
            <a:ext cx="2209680" cy="2133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5" name="Picture 6" descr="Pomarandze"/>
          <p:cNvPicPr/>
          <p:nvPr/>
        </p:nvPicPr>
        <p:blipFill>
          <a:blip r:embed="rId4"/>
          <a:stretch/>
        </p:blipFill>
        <p:spPr>
          <a:xfrm>
            <a:off x="1994040" y="5557680"/>
            <a:ext cx="1828800" cy="1084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765000"/>
            <a:ext cx="72388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4113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цептор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флекс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њају    у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ла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го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л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ба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мет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ређе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ирис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белог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црног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ромп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јабуке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др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ukusi5"/>
          <p:cNvPicPr/>
          <p:nvPr/>
        </p:nvPicPr>
        <p:blipFill>
          <a:blip r:embed="rId1"/>
          <a:stretch/>
        </p:blipFill>
        <p:spPr>
          <a:xfrm>
            <a:off x="5565600" y="1887480"/>
            <a:ext cx="31305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3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3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3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14240" y="685800"/>
            <a:ext cx="61722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029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рх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в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чни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ранам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сла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гор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н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ге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рвни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уте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ињекци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измут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а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металног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ukusi"/>
          <p:cNvPicPr/>
          <p:nvPr/>
        </p:nvPicPr>
        <p:blipFill>
          <a:blip r:embed="rId1"/>
          <a:stretch/>
        </p:blipFill>
        <p:spPr>
          <a:xfrm>
            <a:off x="5867280" y="4724280"/>
            <a:ext cx="2838600" cy="1906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2" name="Text Box 5"/>
          <p:cNvSpPr/>
          <p:nvPr/>
        </p:nvSpPr>
        <p:spPr>
          <a:xfrm>
            <a:off x="5562720" y="3048120"/>
            <a:ext cx="35812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A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Hypo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ys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ukusi"/>
          <p:cNvPicPr/>
          <p:nvPr/>
        </p:nvPicPr>
        <p:blipFill>
          <a:blip r:embed="rId2"/>
          <a:stretch/>
        </p:blipFill>
        <p:spPr>
          <a:xfrm>
            <a:off x="5819760" y="1600200"/>
            <a:ext cx="3019320" cy="13716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4720" y="765000"/>
            <a:ext cx="44020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Ageusia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потпун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ождано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р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бласт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окампусног ги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и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tractus-a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solitarius-a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 пон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лимичн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уби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рв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лез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лези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 chorde tymp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Otitis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- Herpes zoster oticus</a:t>
            </a:r>
            <a:r>
              <a:rPr b="1" i="1" lang="sr-Latn-CS" sz="16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61722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ом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мплек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smell-and-taste-disorders"/>
          <p:cNvPicPr/>
          <p:nvPr/>
        </p:nvPicPr>
        <p:blipFill>
          <a:blip r:embed="rId1"/>
          <a:stretch/>
        </p:blipFill>
        <p:spPr>
          <a:xfrm>
            <a:off x="4708440" y="1643040"/>
            <a:ext cx="3905280" cy="2476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78" name="Picture 7" descr="ukusi"/>
          <p:cNvPicPr/>
          <p:nvPr/>
        </p:nvPicPr>
        <p:blipFill>
          <a:blip r:embed="rId2"/>
          <a:stretch/>
        </p:blipFill>
        <p:spPr>
          <a:xfrm>
            <a:off x="5327640" y="4343400"/>
            <a:ext cx="2666880" cy="22478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647712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609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Hypoge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смањен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ешких пуш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об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мањен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ири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к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лос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ysge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осећај пара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ећај љут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ла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орк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етал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ез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твар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в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ровањ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ешк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ета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алван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остен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ожда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теросклер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в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оремаћај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стај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оследиц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ражењ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арaсимпатичк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лакан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chorde tymp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wm-Smell and Taste"/>
          <p:cNvPicPr/>
          <p:nvPr/>
        </p:nvPicPr>
        <p:blipFill>
          <a:blip r:embed="rId1"/>
          <a:stretch/>
        </p:blipFill>
        <p:spPr>
          <a:xfrm>
            <a:off x="6172200" y="4619520"/>
            <a:ext cx="2743200" cy="20574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82" name="Picture 5" descr="dah-i-zubi-450"/>
          <p:cNvPicPr/>
          <p:nvPr/>
        </p:nvPicPr>
        <p:blipFill>
          <a:blip r:embed="rId2"/>
          <a:stretch/>
        </p:blipFill>
        <p:spPr>
          <a:xfrm>
            <a:off x="6781680" y="2666880"/>
            <a:ext cx="2133720" cy="1735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83" name="Picture 6" descr="smoking"/>
          <p:cNvPicPr/>
          <p:nvPr/>
        </p:nvPicPr>
        <p:blipFill>
          <a:blip r:embed="rId3"/>
          <a:stretch/>
        </p:blipFill>
        <p:spPr>
          <a:xfrm>
            <a:off x="4648320" y="1676520"/>
            <a:ext cx="2743200" cy="1471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37335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ЕРГИЈСК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14800" y="836280"/>
            <a:ext cx="45720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ПИДЕМИОЛОГ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чешћ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ављ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; 16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: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ист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оматолошко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лини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68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-  48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20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русалим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44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37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7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ђ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400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- 111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70,7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%) жен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46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29,3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%)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-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20 –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се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-   54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bocca-urente"/>
          <p:cNvPicPr/>
          <p:nvPr/>
        </p:nvPicPr>
        <p:blipFill>
          <a:blip r:embed="rId1"/>
          <a:stretch/>
        </p:blipFill>
        <p:spPr>
          <a:xfrm>
            <a:off x="5562720" y="4343400"/>
            <a:ext cx="2895480" cy="1963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Алергијске реакције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у неочекиване клиничке манифестације, које настају услед измењеног реаговања имунокомпатибилних ћелија (макрофаге, моноцити, лимфоцити, базофили и мастоцити) против страних материја (ткива, бактерија, вируса и др.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80629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ензибилизациј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је презентацијом антигене материје од стране антиген-презентирајуцих ћелија (макрофаге и лимфоци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ворена антитела настају на неке сопствене материје, чиме се објашњавај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утоимуна обо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5562720"/>
            <a:ext cx="7927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сеудоалергиј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интолеранција настаје фармаколошким својствима унетих супстан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9135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су супстанце егзогеног или ендогеног порекла које могу да изазову имуни од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ХАПТ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ју само антигеност, али не индукују стварање ант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86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РИРОД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теини, липиди, нуклеинске киселине, ткив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ЕШТАЧК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тетски полипептид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њугова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http://www.alfamedic.rs/images/alergologija/alergologija1.jpg"/>
          <p:cNvPicPr/>
          <p:nvPr/>
        </p:nvPicPr>
        <p:blipFill>
          <a:blip r:embed="rId1"/>
          <a:stretch/>
        </p:blipFill>
        <p:spPr>
          <a:xfrm>
            <a:off x="3886200" y="3581280"/>
            <a:ext cx="4952880" cy="2992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ДЕЛА АНТИГЕНА ПРЕМ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НЕТСКОЈ РАЗЛИЦ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утолог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истог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ло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јединке ис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сено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јединке друг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н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генетички ис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Хетерофил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једнички за различи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http://www.vaseljenska.com/wp-content/uploads/2012/09/hiv-sida-aids.jpg"/>
          <p:cNvPicPr/>
          <p:nvPr/>
        </p:nvPicPr>
        <p:blipFill>
          <a:blip r:embed="rId1"/>
          <a:stretch/>
        </p:blipFill>
        <p:spPr>
          <a:xfrm>
            <a:off x="4038480" y="4025880"/>
            <a:ext cx="4840560" cy="2594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www.nordvik.rs/wp-content/uploads/2012/12/alergije1.jpg"/>
          <p:cNvPicPr/>
          <p:nvPr/>
        </p:nvPicPr>
        <p:blipFill>
          <a:blip r:embed="rId2"/>
          <a:stretch/>
        </p:blipFill>
        <p:spPr>
          <a:xfrm>
            <a:off x="380880" y="403380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8580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ДЕЛА АНТИГЕНА ПРЕМ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НЕТСКОЈ РАЗЛИЦ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786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гени се налазе на кратком краку 6 хромоз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лекс гена има више ло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куси HLA су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20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42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8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12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D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са 10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 класе I: HLA-A, HLA-B и HLA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 класе II: HLA-D и HLA-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62120" y="1828800"/>
            <a:ext cx="56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 HLA – Human Leucocyte antigen ti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163440" y="-2865600"/>
            <a:ext cx="726768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http://www.medicaljournals.se/acta/content/files/web/3320-web-images/3320fig3_fmt.jpeg"/>
          <p:cNvPicPr/>
          <p:nvPr/>
        </p:nvPicPr>
        <p:blipFill>
          <a:blip r:embed="rId1"/>
          <a:stretch/>
        </p:blipFill>
        <p:spPr>
          <a:xfrm>
            <a:off x="5429160" y="5019840"/>
            <a:ext cx="371484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АНТИТЕЛА - ИМУНОГЛОБУЛИН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82072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Г (IgG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% од свих Иг, везује се за Фц- фраг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итофилан је и има 4 подкл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М (IgM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А (ИгА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реторни имуноглобул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силац је локалног имунит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 две субкл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Е (IgE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агинско антител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ује се за Фц-рецепт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зофилних гранулоци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т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оноклонкса ант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http://static.framar.bg/snimki/zabolyavaniya/imunodeficit-s-preobladavasht-defekt-na-antitel.-neutochnen.jpg"/>
          <p:cNvPicPr/>
          <p:nvPr/>
        </p:nvPicPr>
        <p:blipFill>
          <a:blip r:embed="rId1"/>
          <a:stretch/>
        </p:blipFill>
        <p:spPr>
          <a:xfrm>
            <a:off x="4978440" y="2743200"/>
            <a:ext cx="398448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ИМУНОЛОШКЕ РЕАКЦИЈ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907920"/>
            <a:ext cx="8066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ни тип хиперсензибил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</a:t>
            </a:r>
            <a:r>
              <a:rPr b="1" i="1" lang="en-GB" sz="20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афилактички 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алергијска ас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уртика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оленска грозница и 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</a:t>
            </a:r>
            <a:r>
              <a:rPr b="1" i="1" lang="en-GB" sz="2000" spc="-1" strike="noStrike">
                <a:solidFill>
                  <a:srgbClr val="002060"/>
                </a:solidFill>
                <a:latin typeface="Arial"/>
              </a:rPr>
              <a:t>II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емолитичка 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урп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аутоимун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III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тусова реа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румск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09480" y="4653000"/>
            <a:ext cx="8066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асни тип преосетљ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ју после 24 и више часова. У овим реакцијама учествују Т-лимфоцити за чију се површину везују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осетљивост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ктериј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ус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азит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контактн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http://home.allergicchild.com/wp-content/uploads/2012/07/allergy1.jpg"/>
          <p:cNvPicPr/>
          <p:nvPr/>
        </p:nvPicPr>
        <p:blipFill>
          <a:blip r:embed="rId1"/>
          <a:stretch/>
        </p:blipFill>
        <p:spPr>
          <a:xfrm>
            <a:off x="5886360" y="1752480"/>
            <a:ext cx="29527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ЛИНИЧКЕ МАНИФЕСТАЦИЈЕ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35280" y="190512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matitis alle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anthema fix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edema angioneuroti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matitis conta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ALLERG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8305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нтиге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гзогени (бактерије, вируси, храна, ле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ндогени (трансформација аутогеног материј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 промен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Знац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нантем оралне слузокоже, едем оралне слузокоже (јавља се импресија зуба), ерозије и улцерације оралне слузокоже, ретко нек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имптом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ечење, жарење, бол, задах из уста, отежана исхрана - дехидрат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st allergica ab"/>
          <p:cNvPicPr/>
          <p:nvPr/>
        </p:nvPicPr>
        <p:blipFill>
          <a:blip r:embed="rId1"/>
          <a:srcRect l="5204" t="9561" r="10888" b="0"/>
          <a:stretch/>
        </p:blipFill>
        <p:spPr>
          <a:xfrm>
            <a:off x="5364000" y="4870440"/>
            <a:ext cx="2451240" cy="1778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ALLERG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rythema exudativum multi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mphigus vulg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chen pl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станак узимања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гијенско-дијететски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гиц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://1.bp.blogspot.com/-m_gqWV53k1k/Tk-y0aS1ACI/AAAAAAAACxk/z9C6EI1g_mg/s640/Allergic%2Bstomatitis%2Bcaused%2Bby%2Bacrylic%2Bresin.png"/>
          <p:cNvPicPr/>
          <p:nvPr/>
        </p:nvPicPr>
        <p:blipFill>
          <a:blip r:embed="rId1"/>
          <a:stretch/>
        </p:blipFill>
        <p:spPr>
          <a:xfrm>
            <a:off x="4876920" y="3924360"/>
            <a:ext cx="4047840" cy="2781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dc150.4shared.com/doc/27MNDEMH/preview_html_26665746.gif"/>
          <p:cNvPicPr/>
          <p:nvPr/>
        </p:nvPicPr>
        <p:blipFill>
          <a:blip r:embed="rId2"/>
          <a:stretch/>
        </p:blipFill>
        <p:spPr>
          <a:xfrm>
            <a:off x="5486400" y="1563840"/>
            <a:ext cx="3432240" cy="2103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NANTHEMA FIX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нтиге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леков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сулфопрепара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биотици, аспир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хра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конзерванси, салици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 пром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непцу и 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 енан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ик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пертрофија језичног покрив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иј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enanthema fixum"/>
          <p:cNvPicPr/>
          <p:nvPr/>
        </p:nvPicPr>
        <p:blipFill>
          <a:blip r:embed="rId1"/>
          <a:srcRect l="13624" t="10147" r="23114" b="4348"/>
          <a:stretch/>
        </p:blipFill>
        <p:spPr>
          <a:xfrm>
            <a:off x="6300720" y="4076640"/>
            <a:ext cx="2664000" cy="2419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19" name="Picture 6" descr="alergija na eugenol"/>
          <p:cNvPicPr/>
          <p:nvPr/>
        </p:nvPicPr>
        <p:blipFill>
          <a:blip r:embed="rId2"/>
          <a:srcRect l="4195" t="0" r="0" b="0"/>
          <a:stretch/>
        </p:blipFill>
        <p:spPr>
          <a:xfrm>
            <a:off x="6300720" y="1730520"/>
            <a:ext cx="2664000" cy="2155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836280"/>
            <a:ext cx="7086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ДЕЛ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ТИОЛОГ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Секундарн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 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атећ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диниј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и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Локални</a:t>
            </a:r>
            <a:r>
              <a:rPr b="1" lang="sr-Latn-C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Општи</a:t>
            </a:r>
            <a:r>
              <a:rPr b="1" lang="sr-Latn-C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2. Прав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 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есенцијалн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диниј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и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burnx2"/>
          <p:cNvPicPr/>
          <p:nvPr/>
        </p:nvPicPr>
        <p:blipFill>
          <a:blip r:embed="rId1"/>
          <a:srcRect l="0" t="0" r="0" b="22509"/>
          <a:stretch/>
        </p:blipFill>
        <p:spPr>
          <a:xfrm>
            <a:off x="762120" y="4987800"/>
            <a:ext cx="5181480" cy="1535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drymouth"/>
          <p:cNvPicPr/>
          <p:nvPr/>
        </p:nvPicPr>
        <p:blipFill>
          <a:blip r:embed="rId2"/>
          <a:stretch/>
        </p:blipFill>
        <p:spPr>
          <a:xfrm>
            <a:off x="6781680" y="4443480"/>
            <a:ext cx="2200320" cy="19936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3" name="Picture 8" descr="images"/>
          <p:cNvPicPr/>
          <p:nvPr/>
        </p:nvPicPr>
        <p:blipFill>
          <a:blip r:embed="rId3"/>
          <a:stretch/>
        </p:blipFill>
        <p:spPr>
          <a:xfrm>
            <a:off x="6781680" y="2190600"/>
            <a:ext cx="2119320" cy="1667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NANTHEMA FIX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ључење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гијенско-дијететски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http://sideeffectsz.com/wp-content/uploads/2013/02/bactrim-5.jpg"/>
          <p:cNvPicPr/>
          <p:nvPr/>
        </p:nvPicPr>
        <p:blipFill>
          <a:blip r:embed="rId1"/>
          <a:stretch/>
        </p:blipFill>
        <p:spPr>
          <a:xfrm>
            <a:off x="5486400" y="3733920"/>
            <a:ext cx="3105000" cy="2666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www.steadyhealth.com/109076/Image/antibiotics_pills.jpg"/>
          <p:cNvPicPr/>
          <p:nvPr/>
        </p:nvPicPr>
        <p:blipFill>
          <a:blip r:embed="rId2"/>
          <a:stretch/>
        </p:blipFill>
        <p:spPr>
          <a:xfrm>
            <a:off x="914400" y="3733920"/>
            <a:ext cx="3532320" cy="2649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EDEMA ANGIONEUROTIC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3280" y="1671120"/>
            <a:ext cx="85345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Наследн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форм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достатак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хибитор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лест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утозом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минант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течен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форм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г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есте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моционалн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е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ромене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гл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ов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ц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к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пц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језик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отис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43000" y="10666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ска реакција раног типа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gE, Ig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gioedem"/>
          <p:cNvPicPr/>
          <p:nvPr/>
        </p:nvPicPr>
        <p:blipFill>
          <a:blip r:embed="rId1"/>
          <a:stretch/>
        </p:blipFill>
        <p:spPr>
          <a:xfrm>
            <a:off x="7308720" y="2895480"/>
            <a:ext cx="1589040" cy="2159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28" name="Picture 7" descr="angioneuroticni edem"/>
          <p:cNvPicPr/>
          <p:nvPr/>
        </p:nvPicPr>
        <p:blipFill>
          <a:blip r:embed="rId2"/>
          <a:srcRect l="0" t="7705" r="0" b="9824"/>
          <a:stretch/>
        </p:blipFill>
        <p:spPr>
          <a:xfrm>
            <a:off x="6875640" y="1179360"/>
            <a:ext cx="2022120" cy="1582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EDEMA ANGIONEUROTIC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5345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руршки емфиз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eilitis granuloma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lkersson-Rosenthal syndrom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дрена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403280" y="981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ска реакција раног типа (IgE, Ig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t0.gstatic.com/images?q=tbn:ANd9GcRueSXzEX6y0XuA1a_ohjLR9Q2Xf7J3qxcqHclcOQ0TpgiIOV6E"/>
          <p:cNvPicPr/>
          <p:nvPr/>
        </p:nvPicPr>
        <p:blipFill>
          <a:blip r:embed="rId1"/>
          <a:stretch/>
        </p:blipFill>
        <p:spPr>
          <a:xfrm>
            <a:off x="5978520" y="4564080"/>
            <a:ext cx="2978280" cy="2203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http://t0.gstatic.com/images?q=tbn:ANd9GcQpWrWZeD-lkB38PEctyzBCzBcyddi6Dr16uObLwew5EnLjO8mD"/>
          <p:cNvPicPr/>
          <p:nvPr/>
        </p:nvPicPr>
        <p:blipFill>
          <a:blip r:embed="rId2"/>
          <a:stretch/>
        </p:blipFill>
        <p:spPr>
          <a:xfrm>
            <a:off x="5978520" y="2265480"/>
            <a:ext cx="29782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CONTACT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38242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Промене на усн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нан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 и затегнутост у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Оралне про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итем оралне слузок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зик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85800" y="1052640"/>
            <a:ext cx="295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eilitis alle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ergija na akri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3708360" y="1125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468360" y="2133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http://img.medscape.com/pi/emed/ckb/dermatology/1048885-1076589-1530tn.jpg"/>
          <p:cNvPicPr/>
          <p:nvPr/>
        </p:nvPicPr>
        <p:blipFill>
          <a:blip r:embed="rId1"/>
          <a:stretch/>
        </p:blipFill>
        <p:spPr>
          <a:xfrm>
            <a:off x="5257800" y="4336920"/>
            <a:ext cx="3124080" cy="196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http://img.medscape.com/pi/emed/ckb/dermatology/1048885-1076589-1527tn.jpg"/>
          <p:cNvPicPr/>
          <p:nvPr/>
        </p:nvPicPr>
        <p:blipFill>
          <a:blip r:embed="rId2"/>
          <a:stretch/>
        </p:blipFill>
        <p:spPr>
          <a:xfrm>
            <a:off x="5257800" y="2009880"/>
            <a:ext cx="3087720" cy="2114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CONTACT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7879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уматски ефекат  од про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емијска оштећ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мичка оштећ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с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лањање уз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alergija na akrilat"/>
          <p:cNvPicPr/>
          <p:nvPr/>
        </p:nvPicPr>
        <p:blipFill>
          <a:blip r:embed="rId1"/>
          <a:srcRect l="0" t="7165" r="0" b="0"/>
          <a:stretch/>
        </p:blipFill>
        <p:spPr>
          <a:xfrm>
            <a:off x="4876920" y="2992320"/>
            <a:ext cx="3362040" cy="3005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ИЈАГНОЗ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estovi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in v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експози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h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ба уб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а скарификације 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ratch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ausnitz-Kustne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окациони 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http://dermnetnz.org/procedures/img/ptest1-s.jpg"/>
          <p:cNvPicPr/>
          <p:nvPr/>
        </p:nvPicPr>
        <p:blipFill>
          <a:blip r:embed="rId1"/>
          <a:stretch/>
        </p:blipFill>
        <p:spPr>
          <a:xfrm>
            <a:off x="5410080" y="1636560"/>
            <a:ext cx="2973600" cy="2230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http://www.laserdermatologynyc.com/images/text/skin-allergy/patch-testing.jpg"/>
          <p:cNvPicPr/>
          <p:nvPr/>
        </p:nvPicPr>
        <p:blipFill>
          <a:blip r:embed="rId2"/>
          <a:stretch/>
        </p:blipFill>
        <p:spPr>
          <a:xfrm>
            <a:off x="5410080" y="415296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8534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ИЈАГНОЗ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94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стов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 v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ципитацијске ре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лектрофо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дегранулације базофила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lly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лимфоцитне трансфо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ови за одређивање хис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www.embrn.eu/typo3temp/pics/2d4f24678f.png"/>
          <p:cNvPicPr/>
          <p:nvPr/>
        </p:nvPicPr>
        <p:blipFill>
          <a:blip r:embed="rId1"/>
          <a:stretch/>
        </p:blipFill>
        <p:spPr>
          <a:xfrm>
            <a:off x="5334120" y="2133720"/>
            <a:ext cx="3155760" cy="4019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ЕРАПИЈ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525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лањање узро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патикомиметици - адрена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тико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арати калц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https://encrypted-tbn3.gstatic.com/images?q=tbn:ANd9GcRFHFGpkwAUFi0RtsGp_2sDitqcOubyRmhwdwR3MSMu2M6vibCLdA"/>
          <p:cNvPicPr/>
          <p:nvPr/>
        </p:nvPicPr>
        <p:blipFill>
          <a:blip r:embed="rId1"/>
          <a:stretch/>
        </p:blipFill>
        <p:spPr>
          <a:xfrm>
            <a:off x="5791320" y="39625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http://3.imimg.com/data3/NX/PS/MY-633643/anti-allergic-drug-250x250.png"/>
          <p:cNvPicPr/>
          <p:nvPr/>
        </p:nvPicPr>
        <p:blipFill>
          <a:blip r:embed="rId2"/>
          <a:stretch/>
        </p:blipFill>
        <p:spPr>
          <a:xfrm>
            <a:off x="5791320" y="10666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556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ЛОКАЛН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вој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номалиј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Lingua plic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вој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атећ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на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кри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таминск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фи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уролош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Glossitis rombica me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вој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он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перпла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дидиј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ingva plicata 1"/>
          <p:cNvPicPr/>
          <p:nvPr/>
        </p:nvPicPr>
        <p:blipFill>
          <a:blip r:embed="rId1"/>
          <a:stretch/>
        </p:blipFill>
        <p:spPr>
          <a:xfrm>
            <a:off x="6819840" y="1708200"/>
            <a:ext cx="1897200" cy="16826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7" name="Picture 5" descr="rombica"/>
          <p:cNvPicPr/>
          <p:nvPr/>
        </p:nvPicPr>
        <p:blipFill>
          <a:blip r:embed="rId2"/>
          <a:srcRect l="0" t="0" r="0" b="22441"/>
          <a:stretch/>
        </p:blipFill>
        <p:spPr>
          <a:xfrm>
            <a:off x="2133720" y="5575320"/>
            <a:ext cx="1873080" cy="1135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8" name="Picture 6" descr="rombica 2"/>
          <p:cNvPicPr/>
          <p:nvPr/>
        </p:nvPicPr>
        <p:blipFill>
          <a:blip r:embed="rId3"/>
          <a:srcRect l="0" t="11557" r="0" b="0"/>
          <a:stretch/>
        </p:blipFill>
        <p:spPr>
          <a:xfrm>
            <a:off x="4386240" y="5575320"/>
            <a:ext cx="1960560" cy="11095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9" name="Picture 7" descr="lingva plicata 2"/>
          <p:cNvPicPr/>
          <p:nvPr/>
        </p:nvPicPr>
        <p:blipFill>
          <a:blip r:embed="rId4"/>
          <a:stretch/>
        </p:blipFill>
        <p:spPr>
          <a:xfrm>
            <a:off x="6819840" y="3487680"/>
            <a:ext cx="1897200" cy="16178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33000"/>
            <a:ext cx="792468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0755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чном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кривач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ч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кривач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ч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нч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чурк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п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та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сквамира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акте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emija 1"/>
          <p:cNvPicPr/>
          <p:nvPr/>
        </p:nvPicPr>
        <p:blipFill>
          <a:blip r:embed="rId1"/>
          <a:stretch/>
        </p:blipFill>
        <p:spPr>
          <a:xfrm>
            <a:off x="6622920" y="1749600"/>
            <a:ext cx="2063880" cy="20732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3" name="Picture 5" descr="hipertrfija"/>
          <p:cNvPicPr/>
          <p:nvPr/>
        </p:nvPicPr>
        <p:blipFill>
          <a:blip r:embed="rId2"/>
          <a:stretch/>
        </p:blipFill>
        <p:spPr>
          <a:xfrm>
            <a:off x="1332000" y="4365720"/>
            <a:ext cx="2592360" cy="21333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4" name="Picture 6" descr="filiformne-papile-izgledaju-poput-kratkih-niti-i-rasprostranjene-su-po-čitavom-jeziku-a-gljivolike-fungiformne-papile-nalaze-se-na-vršku-jezika"/>
          <p:cNvPicPr/>
          <p:nvPr/>
        </p:nvPicPr>
        <p:blipFill>
          <a:blip r:embed="rId3"/>
          <a:stretch/>
        </p:blipFill>
        <p:spPr>
          <a:xfrm>
            <a:off x="4952880" y="4365720"/>
            <a:ext cx="2895840" cy="2133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80773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90392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трофиј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језичног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кр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перхром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галобла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рнициоз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тами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руп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циро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антибиоти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тикостерои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разитар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гестивн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кри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надбубреж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лезд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аб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ламер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нсо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ра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ерап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едел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лав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anemija"/>
          <p:cNvPicPr/>
          <p:nvPr/>
        </p:nvPicPr>
        <p:blipFill>
          <a:blip r:embed="rId1"/>
          <a:stretch/>
        </p:blipFill>
        <p:spPr>
          <a:xfrm>
            <a:off x="6567480" y="1676520"/>
            <a:ext cx="2471760" cy="20984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8" name="Picture 5" descr="sideropenicna anemija 2"/>
          <p:cNvPicPr/>
          <p:nvPr/>
        </p:nvPicPr>
        <p:blipFill>
          <a:blip r:embed="rId2"/>
          <a:srcRect l="11240" t="0" r="0" b="0"/>
          <a:stretch/>
        </p:blipFill>
        <p:spPr>
          <a:xfrm>
            <a:off x="6567480" y="4495680"/>
            <a:ext cx="2471760" cy="2170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29" name="Picture 6" descr="atrofija pokrivaca"/>
          <p:cNvPicPr/>
          <p:nvPr/>
        </p:nvPicPr>
        <p:blipFill>
          <a:blip r:embed="rId3"/>
          <a:srcRect l="0" t="21334" r="0" b="7677"/>
          <a:stretch/>
        </p:blipFill>
        <p:spPr>
          <a:xfrm>
            <a:off x="4191120" y="5562720"/>
            <a:ext cx="1981080" cy="11030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07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ME" sz="2400" spc="-1" strike="noStrike">
                <a:solidFill>
                  <a:srgbClr val="ff0000"/>
                </a:solidFill>
                <a:latin typeface="Arial"/>
              </a:rPr>
              <a:t>б .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ипертрофиј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језичног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кр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ебри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нзумир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ш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ш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мањен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у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љувачк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кс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ростоми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с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екомерн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уш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лу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контролиса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аб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д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рој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hipertrofija 2"/>
          <p:cNvPicPr/>
          <p:nvPr/>
        </p:nvPicPr>
        <p:blipFill>
          <a:blip r:embed="rId1"/>
          <a:stretch/>
        </p:blipFill>
        <p:spPr>
          <a:xfrm>
            <a:off x="6602400" y="1730520"/>
            <a:ext cx="2389320" cy="230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33" name="Picture 5" descr="hipertrofija 1"/>
          <p:cNvPicPr/>
          <p:nvPr/>
        </p:nvPicPr>
        <p:blipFill>
          <a:blip r:embed="rId2"/>
          <a:stretch/>
        </p:blipFill>
        <p:spPr>
          <a:xfrm>
            <a:off x="6602400" y="4424400"/>
            <a:ext cx="2389320" cy="21477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34" name="Picture 6" descr="oblozen jezik1"/>
          <p:cNvPicPr/>
          <p:nvPr/>
        </p:nvPicPr>
        <p:blipFill>
          <a:blip r:embed="rId3"/>
          <a:srcRect l="23570" t="26767" r="27272" b="27351"/>
          <a:stretch/>
        </p:blipFill>
        <p:spPr>
          <a:xfrm>
            <a:off x="3730680" y="4888080"/>
            <a:ext cx="2517840" cy="176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6391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рохормонал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исбал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лимакс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нопауз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ичко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моционално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стабилношћ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лоп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“ендокрин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осиндром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ореактив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ег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лузокож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ле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достат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стр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ријад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импто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ку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у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лтерира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burning mouth syndrome"/>
          <p:cNvPicPr/>
          <p:nvPr/>
        </p:nvPicPr>
        <p:blipFill>
          <a:blip r:embed="rId1"/>
          <a:stretch/>
        </p:blipFill>
        <p:spPr>
          <a:xfrm>
            <a:off x="152280" y="4495680"/>
            <a:ext cx="2476800" cy="1847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8" name="Picture 5" descr="dry_tongue_mouth"/>
          <p:cNvPicPr/>
          <p:nvPr/>
        </p:nvPicPr>
        <p:blipFill>
          <a:blip r:embed="rId2"/>
          <a:stretch/>
        </p:blipFill>
        <p:spPr>
          <a:xfrm>
            <a:off x="6105600" y="3809880"/>
            <a:ext cx="2743200" cy="2687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4563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r>
              <a:rPr b="1" lang="sr-Latn-C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07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рвикалн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понди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генератив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ме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ратн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шљен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радијац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атолошк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це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истем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ранијал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ртериосклеротич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вним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уд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огат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аскуларизац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ок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нгиноз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анцерофоб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r7_cervicalspondylosis"/>
          <p:cNvPicPr/>
          <p:nvPr/>
        </p:nvPicPr>
        <p:blipFill>
          <a:blip r:embed="rId1"/>
          <a:srcRect l="0" t="0" r="0" b="5764"/>
          <a:stretch/>
        </p:blipFill>
        <p:spPr>
          <a:xfrm>
            <a:off x="3270240" y="2895480"/>
            <a:ext cx="1828800" cy="1492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2" name="Picture 5" descr="spoondiloza"/>
          <p:cNvPicPr/>
          <p:nvPr/>
        </p:nvPicPr>
        <p:blipFill>
          <a:blip r:embed="rId2"/>
          <a:stretch/>
        </p:blipFill>
        <p:spPr>
          <a:xfrm>
            <a:off x="5334120" y="2895480"/>
            <a:ext cx="3657600" cy="1492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3" name="Picture 6" descr="aorta"/>
          <p:cNvPicPr/>
          <p:nvPr/>
        </p:nvPicPr>
        <p:blipFill>
          <a:blip r:embed="rId3"/>
          <a:stretch/>
        </p:blipFill>
        <p:spPr>
          <a:xfrm>
            <a:off x="5943600" y="4622760"/>
            <a:ext cx="2590920" cy="2013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9:23:47Z</dcterms:created>
  <dc:creator>Pejca</dc:creator>
  <dc:description/>
  <dc:language>en-US</dc:language>
  <cp:lastModifiedBy>John</cp:lastModifiedBy>
  <dcterms:modified xsi:type="dcterms:W3CDTF">2017-08-30T12:53:48Z</dcterms:modified>
  <cp:revision>132</cp:revision>
  <dc:subject/>
  <dc:title>ORALNE DINIJE I PIROZE</dc:title>
</cp:coreProperties>
</file>